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1.gif" ContentType="image/gif"/>
  <Override PartName="/ppt/media/image10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4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31.png" ContentType="image/png"/>
  <Override PartName="/ppt/media/image33.png" ContentType="image/png"/>
  <Override PartName="/ppt/media/image12.png" ContentType="image/png"/>
  <Override PartName="/ppt/media/image35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C2C6-77F8-4E41-BAAE-45FAF7683E96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A24-07C9-4D51-8933-AF20D0BE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5A1-F985-4803-BBE9-D2106C8F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51B-4FB6-4CF7-ADB0-E20035B8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8B2-1BDB-44C6-9470-373E6E91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4E61-7ABB-4981-AEDD-AD4BBF47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E3D8-3DBA-48CD-B497-591C9CF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A289-D22F-40FA-9187-9E41F1E4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6681-E8DC-4C44-9B36-851AC587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E1DF-FF88-459E-A96F-C0AA50E4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8FB3-97C5-46A5-BC87-6B01F3F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0E1A-28B1-4F1A-BA79-FD32F44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788-4ADF-4BD1-9F32-8A9C4FB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E13F-8F63-4368-B44D-58F8F2B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3A25-2B9B-4E84-BC18-BE555AEC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6659-92A6-4379-ABBB-676DC1AB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BCF2-56F9-42DA-9DFC-78AB27ED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D5F5-04CF-4D3B-A014-93409759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E736-FBB7-490D-9364-5848AB62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E1FC-F09F-44AB-A041-DCEACA35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4478A-EB89-47B9-AA8E-BAE7A200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A22C-5D04-44D6-8E10-48E4B40D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4C5C-CAB3-48F8-A190-8FDF0117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46F-3FBA-4A4E-8410-D76358D3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07A3-F0CB-4CA3-AAAA-4B822E3A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F6D1-004A-4D8E-9634-679C726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985E-E241-446F-B24D-6F644672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FDDD-8403-40C0-9DE6-479D77EA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7BEA-BC72-41AE-9776-D273A6E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B0AF-5153-4437-8FCC-6B391686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81B1-20F0-4ABE-B39A-E752B008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5E83A-FF3D-42DA-A142-BB4D1E5B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C2FA-0184-4E09-96DD-4AF414F8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C4D0-C6B4-4C49-963A-6028D55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359-A168-4357-AD1A-E0975A3F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33CB-2707-4B47-A0A9-A9FBD619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01FE-7B69-41F4-828D-80B19D19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68AD-FFBA-47B4-BF47-164B05A7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CC35B-EDE7-48A2-B825-65D207F0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48B6-93C5-4770-AD8B-3C496D5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1B80-DB06-47E2-B045-DFB886FA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20EC-61C7-458A-A9A0-328C52C5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593E-0C89-4E21-AFC1-543B3618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F1076-97C0-4CC0-A152-5F6F1FF2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A74-737D-417C-9389-E3C45B8A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725-080D-4181-B92B-99D479C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C0D-7FE1-4299-9AC0-6A9C18D6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DAA-5EFB-4BE9-A3C8-E6A7C229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53C-DE22-4EF1-9A21-8688D62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8477280" y="6343560"/>
            <a:ext cx="4190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A2BB-3AEA-4864-87BA-C2B88D8219FA}" type="slidenum"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A109-1815-4937-AC41-BC85CDDD76AD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2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B6C1-354D-45AC-8497-8017350B5AAD}" type="slidenum">
              <a:rPr b="1" lang="el-G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6387-5F93-446C-B712-0E6D0FED4B51}" type="slidenum">
              <a:rPr b="1" lang="el-G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physics.ntua.gr/POPPHYS/index.html" TargetMode="External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5960" y="2182680"/>
            <a:ext cx="8528040" cy="12877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217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Ένα ταξίδι στο μικρόκοσμο του χωρόχρονου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66"/>
                </a:solidFill>
                <a:latin typeface="Times New Roman"/>
              </a:rPr>
              <a:t>Πάνος Μουρούζ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66"/>
                </a:solidFill>
                <a:latin typeface="Times New Roman"/>
              </a:rPr>
              <a:t>Φυσικός Ρ/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Υπεύθυνος Ε.Κ.Φ.Ε Κέρκυρ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2E2B-E52B-42FD-BD82-B9277E63ED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62560" y="74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Η μάζα είναι μια μορφή ενέργειας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 Einstein 1905 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Δεν ισχύει η αρχή διατήρησης της μάζας αλλά η αρχή διατήρησης της υλοενέργειας που για μικρές ενέργειες καταλήγει στην αρχή διατήρησης της μάζα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58920" y="4653000"/>
            <a:ext cx="7058160" cy="576360"/>
            <a:chOff x="1258920" y="4653000"/>
            <a:chExt cx="7058160" cy="576360"/>
          </a:xfrm>
        </p:grpSpPr>
        <p:sp>
          <p:nvSpPr>
            <p:cNvPr id="261" name=""/>
            <p:cNvSpPr/>
            <p:nvPr/>
          </p:nvSpPr>
          <p:spPr>
            <a:xfrm>
              <a:off x="1258920" y="4724280"/>
              <a:ext cx="504720" cy="5050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19640" y="4797360"/>
              <a:ext cx="360360" cy="360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4653000"/>
              <a:ext cx="504720" cy="50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53440" y="4726080"/>
              <a:ext cx="360360" cy="360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63680" y="47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81840" y="4724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81560" y="47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24720" y="47131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3366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932360" y="4724280"/>
            <a:ext cx="0" cy="144144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544500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373720"/>
            <a:ext cx="122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28920" y="524844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=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18840" y="5950080"/>
            <a:ext cx="7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20000" y="5969160"/>
            <a:ext cx="8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85435-8A6A-4471-9372-539A63F14B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87600" y="466560"/>
            <a:ext cx="6176880" cy="14558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ΑΡΧΗ ΤΗΣ ΕΛΑΧΙΣΤΗΣ ΕΝΕΡΓΕΙΑΣ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ΑΙ ΜΕΤΑ ΘΑ ΚΑΑΑΘΕΣΑΙ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Όλα τα φυσικά συστήματα οδεύουν προς την κατάσταση με την ελάχιστη ενέργει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9040" y="3973680"/>
            <a:ext cx="1860480" cy="2263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970360" y="3959280"/>
            <a:ext cx="2292120" cy="2292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5532480" y="3960720"/>
            <a:ext cx="332892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61F-0439-47AD-9BE4-FA6B0F224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Η σπουδαιότερη αρχή της Φυσικής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ρχή αβεβαιότητας του  Χάιζενμπεργκ 192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2565360" cy="28958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791320" y="3352680"/>
            <a:ext cx="264780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FE2-7FD7-41C4-A604-949CE48B6E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Τι μας ερμηνεύει αυτή αρχή;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9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τί τα άτομ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υ ίδιου στοιχείου έχουν όλα το ίδιο μέγεθο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τί τα βαρύτερα άτομα είναι συνήθως και μεγαλύτερα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τί τα άτομα είναι σταθερ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ι είναι αυτό που κινεί τον άνεμο, τα μυρμήγκια τα ποτάμια, τα αεροπλάνα κλπ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τί η πυρηνική ενέργεια είναι πολύ μεγαλύτερη από τη χημική; Ή από πού αντλούν τόση ενέργεια οι αστέρε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480440" y="2021040"/>
            <a:ext cx="1469880" cy="1434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377120" y="4799160"/>
            <a:ext cx="1563840" cy="156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084-311F-4330-91D8-191371F104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Η ερμηνεία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εν μπορούν να υπάρχουν ακίνητα σωματίδια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Όσο εγκλωβίζεται ένα σωματίδιο τόσο αυξάνει η κινητική του ενέργει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tebulb"/>
          <p:cNvSpPr/>
          <p:nvPr/>
        </p:nvSpPr>
        <p:spPr>
          <a:xfrm>
            <a:off x="6680160" y="3648240"/>
            <a:ext cx="378000" cy="4777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844720" y="4305240"/>
            <a:ext cx="3345120" cy="22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0B7-3EC4-4E4C-B53D-A799208962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Δημιουργία του ατόμου του Υδρογόνου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051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άν βρεθούν ένα πρωτόνιο και ένα ηλεκτρόνιο στο χώρο τότε λόγω της ηλεκτρικής τους έλξης θα θέλουν να ενωθού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πλήρης ένωση όμως απαγορεύεται από την αρχή αβεβαιότητα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Έτσι θα δημιουργηθεί αυτομάτως ένα άτομο με συγκεκριμένο μέγεθος που καθορίζεται από την αρχή της ελάχιστης ενέργει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966-82B9-4207-83DC-1C0CF32E9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Η σταθερότητα των ατόμων.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φείλεται στην αρχή της ελάχιστης ενέργειας σε συνδυασμό με την αρχή της αβεβαιότητ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930400" y="3797280"/>
            <a:ext cx="306396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DD9-654A-4D41-A782-C21C31820F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Η ενέργεια των άστρων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895800">
            <a:off x="3583080" y="288252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895800">
            <a:off x="3798720" y="2882520"/>
            <a:ext cx="55116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895800">
            <a:off x="3727440" y="216180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895800">
            <a:off x="4303440" y="2306160"/>
            <a:ext cx="550800" cy="54000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895800">
            <a:off x="4232160" y="273816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87800" y="216216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895800">
            <a:off x="4303800" y="252216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895800">
            <a:off x="4087800" y="28825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895800">
            <a:off x="3871440" y="2306160"/>
            <a:ext cx="550800" cy="54000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895800">
            <a:off x="3366720" y="2449080"/>
            <a:ext cx="550800" cy="54000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895800">
            <a:off x="4158720" y="2449080"/>
            <a:ext cx="551160" cy="54000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895800">
            <a:off x="4014360" y="2593440"/>
            <a:ext cx="550800" cy="54000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895800">
            <a:off x="3582720" y="2306160"/>
            <a:ext cx="550800" cy="54000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895800">
            <a:off x="3352320" y="2666520"/>
            <a:ext cx="551160" cy="54000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895800">
            <a:off x="3727080" y="2593440"/>
            <a:ext cx="550800" cy="54000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895800">
            <a:off x="3767040" y="340488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895800">
            <a:off x="3983040" y="340488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895800">
            <a:off x="3911760" y="268416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895800">
            <a:off x="4487760" y="282852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895800">
            <a:off x="4416480" y="326052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72120" y="26845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895800">
            <a:off x="4487760" y="30445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895800">
            <a:off x="4272120" y="340488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895800">
            <a:off x="4056120" y="28285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895800">
            <a:off x="3429000" y="297144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895800">
            <a:off x="4343400" y="297144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895800">
            <a:off x="4198680" y="3115800"/>
            <a:ext cx="550800" cy="54000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895800">
            <a:off x="3767040" y="28285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895800">
            <a:off x="3624120" y="3188880"/>
            <a:ext cx="55116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895800">
            <a:off x="3911400" y="3115800"/>
            <a:ext cx="550800" cy="54000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895800">
            <a:off x="4452840" y="279540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895800">
            <a:off x="4668840" y="279540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895800">
            <a:off x="4647960" y="1980720"/>
            <a:ext cx="550800" cy="54000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895800">
            <a:off x="5173560" y="221904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895800">
            <a:off x="5101920" y="2650680"/>
            <a:ext cx="550800" cy="54000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7920" y="20750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895800">
            <a:off x="5257440" y="2437920"/>
            <a:ext cx="550800" cy="54000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895800">
            <a:off x="4957920" y="279540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895800">
            <a:off x="4741920" y="22190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895800">
            <a:off x="4237200" y="236196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895800">
            <a:off x="5029200" y="236196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895800">
            <a:off x="4884840" y="25063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895800">
            <a:off x="4452840" y="22190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895800">
            <a:off x="4309920" y="2579400"/>
            <a:ext cx="55116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895800">
            <a:off x="4597560" y="250632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895800">
            <a:off x="4529160" y="348120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895800">
            <a:off x="4745160" y="348120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895800">
            <a:off x="4673520" y="276048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895800">
            <a:off x="5249880" y="290484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895800">
            <a:off x="5178240" y="3336480"/>
            <a:ext cx="550800" cy="54000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33880" y="27608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895800">
            <a:off x="5249880" y="31208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895800">
            <a:off x="5033880" y="348120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895800">
            <a:off x="4818240" y="29048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895800">
            <a:off x="4313160" y="304776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895800">
            <a:off x="5105520" y="304776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895800">
            <a:off x="4960800" y="3192120"/>
            <a:ext cx="55116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895800">
            <a:off x="4529160" y="29048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95800">
            <a:off x="4386240" y="326520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895800">
            <a:off x="4673520" y="319212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895800">
            <a:off x="3919680" y="370980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895800">
            <a:off x="4135320" y="3709800"/>
            <a:ext cx="55116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895800">
            <a:off x="4064040" y="298908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895800">
            <a:off x="4640400" y="313344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895800">
            <a:off x="4648320" y="365724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4400" y="29894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895800">
            <a:off x="4640400" y="33494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895800">
            <a:off x="4424400" y="370980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895800">
            <a:off x="4208400" y="31334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895800">
            <a:off x="3581280" y="3276360"/>
            <a:ext cx="55116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895800">
            <a:off x="4495680" y="3276360"/>
            <a:ext cx="55116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895800">
            <a:off x="4351320" y="34207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895800">
            <a:off x="3919680" y="313344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95800">
            <a:off x="3657240" y="3580920"/>
            <a:ext cx="550800" cy="54000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895800">
            <a:off x="4064040" y="342072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895800">
            <a:off x="3767040" y="271908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895800">
            <a:off x="3983040" y="271908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895800">
            <a:off x="3911760" y="199836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895800">
            <a:off x="4487760" y="214272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895800">
            <a:off x="4416480" y="257472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1905120"/>
            <a:ext cx="55116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895800">
            <a:off x="4487760" y="23587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895800">
            <a:off x="4272120" y="271908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895800">
            <a:off x="4056120" y="21427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895800">
            <a:off x="3551400" y="228564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5800">
            <a:off x="4343400" y="2285640"/>
            <a:ext cx="550800" cy="53964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895800">
            <a:off x="4198680" y="2430000"/>
            <a:ext cx="550800" cy="54000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895800">
            <a:off x="3767040" y="2142720"/>
            <a:ext cx="55080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895800">
            <a:off x="3624120" y="2503080"/>
            <a:ext cx="551160" cy="539640"/>
          </a:xfrm>
          <a:prstGeom prst="ellipse">
            <a:avLst/>
          </a:prstGeom>
          <a:gradFill rotWithShape="0">
            <a:gsLst>
              <a:gs pos="0">
                <a:srgbClr val="ddc8da">
                  <a:alpha val="79215"/>
                </a:srgbClr>
              </a:gs>
              <a:gs pos="100000">
                <a:srgbClr val="c7a1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895800">
            <a:off x="3911400" y="2430000"/>
            <a:ext cx="550800" cy="540000"/>
          </a:xfrm>
          <a:prstGeom prst="ellipse">
            <a:avLst/>
          </a:prstGeom>
          <a:gradFill rotWithShape="0">
            <a:gsLst>
              <a:gs pos="0">
                <a:srgbClr val="fee0a6">
                  <a:alpha val="79215"/>
                </a:srgbClr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9240" y="433404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νουκλεόνια επειδή είναι υποχρεωμένα να βρίσκονται σε μικρό χώρο κινούνται σαν τρελά. Η πυρηνική ενέργεια οφείλεται 50% στις τεράστιες πυρηνικές δυνάμεις και 50% στ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γάλη ταχύτητα των νουκλεονί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C8F-E33A-46B0-B43E-72F2DF7FA8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C 0.00018 -0.00069 0.00052 -0.00116 0.0007 -0.00185 C 0.00122 -0.0037 0.00139 -0.00555 0.00104 -0.00579 C 0.00052 -0.00602 -0.00034 -0.00486 -0.00087 -0.00301 C -0.00121 -0.00185 -0.00139 -0.00092 -0.00139 -0.00023 C -0.00156 0.00023 -0.00156 0.00093 -0.00156 0.00162 C -0.00156 0.00371 -0.00121 0.00556 -0.00069 0.00556 C -0.00017 0.00556 0.00018 0.00371 0.00018 0.00162 C 0.00018 0.00046 0.00018 -0.00046 -2.22222E-006 -0.00116 C -0.00017 -0.00162 -0.00034 -0.00231 -0.00052 -0.00278 C -0.00104 -0.00486 -0.00191 -0.00602 -0.00243 -0.00579 C -0.00278 -0.00555 -0.0026 -0.0037 -0.00208 -0.00162 C -0.00173 -0.00092 -0.00139 -1.85185E-006 -0.00104 0.00046 C -0.00087 0.00093 -0.00052 0.00139 -0.00017 0.00185 C 0.00087 0.00324 0.00209 0.00371 0.00243 0.00324 C 0.00261 0.00255 0.00209 0.00116 0.00087 -0.00023 C 0.00035 -0.00092 -2.22221999999995E-006 -0.00116 -0.00052 -0.00162 C -0.00087 -0.00185 -0.00139 -0.00208 -0.00173 -0.00208 C -0.00312 -0.00278 -0.00434 -0.00254 -0.00451 -0.00185 C -0.00451 -0.00116 -0.00364 -1.85185E-006 -0.00225 0.00046 C -0.00156 0.00046 -0.00104 0.0007 -0.00052 0.0007 C -0.00017 0.0007 0.00035 0.00046 0.00087 0.00046 C 0.00226 -1.85185E-006 0.0033 -0.00116 0.00313 -0.00185 C 0.00295 -0.00254 0.00174 -0.00278 0.00035 -0.00231 C -0.00017 -0.00208 -0.00087 -0.00162 -0.00121 -0.00139 C -0.00156 -0.00092 -0.00191 -0.00069 -0.00225 -0.00023 C -0.0033 0.00116 -0.00399 0.00255 -0.00364 0.00324 C -0.00347 0.00371 -0.00225 0.00324 -0.00121 0.00185 C -0.00069 0.00116 -0.00017 0.00046 -2.22222E-006 -1.85185E-006 Z">
                                      <p:cBhvr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0017 -2.22222000000001E-006 0.00069 -2.22222000000001E-006 0.00121 -0.00023 C 0.00243 -0.00116 0.00364 -0.00208 0.00347 -0.00278 C 0.00347 -0.00324 0.00226 -0.00324 0.00087 -0.00254 C 1.94444000000001E-006 -0.00231 -0.00087 -0.00208 -0.00122 -0.00162 C -0.00156 -0.00139 -0.00191 -0.00092 -0.00226 -0.00046 C -0.00347 0.00093 -0.00452 0.00232 -0.00399 0.00301 C -0.00365 0.00347 -0.00261 0.00278 -0.00122 0.00139 C -0.0007 0.0007 -0.00018 0.00023 0.00035 -0.00069 C 0.00035 -0.00092 0.00069 -0.00162 0.00087 -0.00185 C 0.00173 -0.00393 0.00191 -0.00555 0.00156 -0.00625 C 0.00104 -0.00625 1.94444000000001E-006 -0.00486 -0.0007 -0.00324 C -0.00104 -0.00231 -0.00156 -0.00139 -0.00122 -0.00069 C -0.00139 -0.00023 -0.00156 0.00047 -0.00156 0.00116 C -0.00174 0.00324 -0.00104 0.00463 -0.00087 0.00463 C -0.00018 0.0044 0.00017 0.00324 0.00017 0.0007 C 0.00035 -0.00046 0.00035 -0.00069 0.00035 -0.00162 C 1.94444000000001E-006 -0.00208 1.94444000000001E-006 -0.00278 -0.00052 -0.00301 C -0.00087 -0.00486 -0.00174 -0.00625 -0.00226 -0.00578 C -0.00278 -0.00509 -0.00278 -0.00347 -0.00209 -0.00185 C -0.00174 -0.00092 -0.00139 -0.00046 -0.00122 0.00023 C -0.00104 0.0007 -0.00035 0.0007 -0.00018 0.00139 C 0.00087 0.00255 0.00226 0.00301 0.00278 0.00209 C 0.00295 0.00162 0.00226 0.00023 0.00121 -0.00092 C 0.00052 -0.00162 1.94444000000001E-006 -0.00185 -0.00035 -0.00208 C -0.00087 -0.00208 -0.00104 -0.00231 -0.00174 -0.00231 C -0.00295 -0.00254 -0.00434 -0.00231 -0.00469 -0.00162 C -0.00469 -0.00092 -0.00365 -0.00023 -0.00226 -2.22222E-006 C -0.00156 0.00023 -0.0007 0.00023 -0.00052 0.00023 Z">
                                      <p:cBhvr>
                                        <p:cTn id="14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162 C -0.00104 -0.00208 -0.00139 -0.00255 -0.00191 -0.00278 C -0.0033 -0.00324 -0.00468 -0.00347 -0.00486 -0.00278 C -0.00503 -0.00255 -0.00416 -0.00139 -0.00277 -0.00069 C -0.00191 -0.00023 -0.00121 0.00046 -0.00069 0.00023 C -0.00034 0.00046 0.00018 0.00046 0.0007 0.00023 C 0.00226 0.00023 0.00365 0.00023 0.00365 -0.00093 C 0.00365 -0.00162 0.00243 -0.00185 0.0007 -0.00208 C -3.05556E-006 -0.00185 -0.00052 -0.00208 -0.00139 -0.00162 C -0.00156 -0.00162 -0.00208 -0.00139 -0.00243 -0.00139 C -0.00399 -0.00046 -0.00503 0.00069 -0.00503 0.00139 C -0.00468 0.00185 -0.00312 0.00185 -0.00191 0.00116 C -0.00121 0.00069 -0.00034 0.00046 -0.00017 -0.00046 C 0.00018 -0.00069 0.00052 -0.00093 0.00087 -0.00162 C 0.00209 -0.00301 0.00226 -0.00463 0.00209 -0.00486 C 0.00139 -0.00509 0.00052 -0.00463 -0.00069 -0.00255 C -0.00139 -0.00185 -0.00139 -0.00162 -0.00191 -0.00093 C -0.00191 -0.00046 -0.00225 0.00023 -0.00191 0.00069 C -0.0026 0.00255 -0.0026 0.0044 -0.00191 0.0044 C -0.00121 0.0044 -0.00034 0.00301 -0.00017 0.00116 C -3.05556E-006 0.00023 -3.05556E-006 -0.00046 0.00018 -0.00116 C 0.00035 -0.00162 -0.00017 -0.00232 -3.05556E-006 -0.00278 C -0.00034 -0.00463 -0.00121 -0.00625 -0.00191 -0.00602 C -0.00225 -0.00579 -0.00243 -0.00417 -0.00225 -0.00232 C -0.00208 -0.00116 -0.00173 -0.00046 -0.00156 3.7037E-007 C -0.00121 0.00046 -0.00121 0.00069 -0.00069 0.00139 C 0.00018 0.00255 0.00139 0.00347 0.00191 0.00324 C 0.00226 0.00278 0.00191 0.00139 0.00087 3.7037E-007 C 0.00052 -0.00069 -0.00017 -0.00162 -0.00034 -0.00162 Z">
                                      <p:cBhvr>
                                        <p:cTn id="16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C 0.00035 -0.00093 0.0007 -0.00139 0.00104 -0.00208 C 0.00139 -0.00417 0.00156 -0.00602 0.00104 -0.00602 C 0.00087 -0.00625 -0.00017 -0.00533 -0.00052 -0.00301 C -0.00104 -0.00208 -0.00139 -0.00139 -0.00139 -0.00046 C -0.00139 1.11110999999998E-006 -0.00156 0.00046 -0.00139 0.00116 C -0.00121 0.00347 -0.00121 0.00509 -0.00052 0.00509 C -2.22221999999995E-006 0.00532 0.00035 0.0037 0.00035 0.00139 C 0.00018 0.00046 0.00035 -0.00023 -0.00017 -0.00162 C 0.00018 -0.00162 -0.00017 -0.00255 -2.22222E-006 -0.00255 C -0.00087 -0.00463 -0.00173 -0.00625 -0.00225 -0.00648 C -0.00243 -0.00602 -0.0026 -0.00394 -0.00208 -0.00208 C -0.00156 -0.00116 -0.00139 1.11111E-006 -0.00087 0.00023 C -0.00069 0.00069 -0.00052 0.00116 -2.22222E-006 0.00139 C 0.00104 0.00324 0.00226 0.0037 0.00261 0.00324 C 0.00261 0.00231 0.00243 0.00139 0.0007 -0.00046 C 0.00018 -0.00139 -0.00017 -0.00162 -0.00034 -0.00208 C -0.00087 -0.00208 -0.00121 -0.00278 -0.00173 -0.00185 C -0.0033 -0.00301 -0.00451 -0.00301 -0.00451 -0.00208 C -0.00451 -0.00116 -0.0033 -0.00023 -0.00191 0.00023 C -0.00121 0.00046 -0.00069 0.00023 -0.00052 0.00069 C -2.22221999999995E-006 0.00092 0.00052 1.11110999999998E-006 0.00104 0.00046 C 0.00226 1.11110999999998E-006 0.00347 -0.00139 0.0033 -0.00232 C 0.00313 -0.00232 0.00191 -0.00278 0.00052 -0.00278 C -0.00034 -0.00232 -0.00087 -0.00162 -0.00139 -0.00139 C -0.00139 -0.00116 -0.00156 -0.00116 -0.00225 -0.00046 C -0.00312 0.00046 -0.00364 0.00231 -0.00347 0.00301 C -0.00312 0.00347 -0.00243 0.00278 -0.00104 0.00139 C -0.00069 0.00092 0.00018 1.11111E-006 -2.22222E-006 1.11111E-006 Z">
                                      <p:cBhvr>
                                        <p:cTn id="18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C -0.00052 0.00046 -0.00104 0.00069 -0.00139 0.00069 C -0.0026 0.00231 -0.00347 0.00347 -0.0033 0.00417 C -0.00312 0.0044 -0.00208 0.00393 -0.00052 0.00347 C 0.00017 0.00255 0.00087 0.00185 0.00104 0.00162 C 0.00156 0.00116 0.00174 0.00069 0.00174 7.40741E-007 C 0.00295 -0.00162 0.00382 -0.00324 0.00295 -0.00347 C 0.00261 -0.00417 0.00174 -0.00301 0.00052 -0.00139 C 0.00017 -0.00046 -0.00017 7.40741000000017E-007 -0.00035 0.00116 C -0.00069 0.00116 -0.00052 0.00231 -0.00087 0.00255 C -0.00139 0.00463 -0.00121 0.00625 -0.00052 0.00694 C -0.00035 0.00671 0.00052 0.00509 0.0007 0.00324 C 0.00122 0.00231 0.00156 0.00116 0.00104 0.00046 C 0.00087 7.40741000000017E-007 0.00122 -0.00046 0.00087 -0.00116 C 0.0007 -0.00347 -8.33333000000022E-007 -0.0044 -0.00035 -0.00463 C -0.00087 -0.00394 -0.00104 -0.00255 -0.00052 7.40741E-007 C -0.00052 0.00116 -0.00035 0.00116 -0.00035 0.00208 C -0.00017 0.00231 0.00035 0.00347 0.00052 0.00301 C 0.00139 0.00509 0.00261 0.00602 0.00261 0.00509 C 0.00313 0.00463 0.00295 0.00301 0.00191 0.00139 C 0.00156 0.00093 0.00104 0.00046 0.00087 -0.00023 C 0.0007 -0.0007 -0.00017 -0.00046 -0.00035 -0.00116 C -0.00174 -0.00185 -0.00312 -0.00208 -0.00347 -0.0007 C -0.00347 -0.00046 -0.0026 0.00069 -0.00139 0.00162 C -0.00052 0.00231 -8.33333000000022E-007 0.00231 0.00035 0.00231 C 0.00087 0.00185 0.00122 0.00231 0.00191 0.00208 C 0.00295 0.00185 0.00434 0.00116 0.00451 0.00046 C 0.00434 7.40741000000017E-007 0.0033 -0.00046 0.00191 -0.00023 C 0.00122 -0.00023 0.00035 7.40741E-007 -8.33333E-007 7.40741E-007 Z">
                                      <p:cBhvr>
                                        <p:cTn id="20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7 0.00023 0.00122 0.00046 0.00157 0.00092 C 0.0033 0.00069 0.00469 0.00023 0.00469 -0.00047 C 0.00452 -0.0007 0.00365 -0.00163 0.00191 -0.00139 C 0.00122 -0.00186 0.00035 -0.00209 -0.00017 -0.00186 C -0.00052 -0.00163 -0.00086 -0.00139 -0.00139 -0.00116 C -0.00277 -0.00047 -0.00416 0.00023 -0.00399 0.00115 C -0.00382 0.00162 -0.0026 0.00162 -0.00086 0.00115 C -0.00034 0.00046 0.00018 0.00046 0.00104 -0.00024 C 0.00104 4.81481E-006 0.00157 -0.00093 0.00174 -0.0007 C 0.00313 -0.00232 0.004 -0.00394 0.00382 -0.00463 C 0.00348 -0.00463 0.00191 -0.0044 0.00087 -0.00325 C 0.00018 -0.00209 -0.00052 -0.00163 -0.00034 -0.00093 C -0.00069 -0.00047 -0.00104 -0.00024 -0.00121 0.00069 C -0.00208 0.00231 -0.00191 0.00416 -0.00156 0.00439 C -0.00086 0.00416 -0.00017 0.0037 0.00035 0.00092 C 0.00087 4.81481000000003E-006 0.00104 -0.00024 0.00122 -0.00093 C 0.00122 -0.00139 0.00139 -0.00232 0.00087 -0.00255 C 0.00122 -0.00487 0.00087 -0.00649 -3.05556E-006 -0.00625 C -0.00052 -0.00602 -0.00104 -0.00417 -0.00069 -0.00232 C -0.00069 -0.00139 -0.00052 -0.0007 -0.00052 -0.00024 C -0.00086 0.00046 -3.05556E-006 0.00092 -3.05556E-006 0.00162 C 0.0007 0.003 0.00191 0.00416 0.00243 0.0037 C 0.00261 0.0037 0.00261 0.00185 0.00191 4.81481E-006 C 0.00157 -0.00093 0.00087 -0.00139 0.0007 -0.00186 C 0.00035 -0.00209 0.00018 -0.00209 -0.00034 -0.00278 C -0.00139 -0.00371 -0.00277 -0.00394 -0.00312 -0.00348 C -0.00364 -0.00278 -0.00277 -0.00186 -0.00139 -0.0007 C -0.00104 -0.00047 -0.00017 0.00046 -3.05556E-006 4.81481E-006 Z">
                                      <p:cBhvr>
                                        <p:cTn id="22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24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26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28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C -0.00034 0.0007 -0.00052 0.00139 -0.00069 0.00208 C -0.00104 0.00394 -0.00121 0.00509 -0.00069 0.00556 C -0.00069 0.00602 0.00035 0.00533 0.00087 0.00324 C 0.00122 0.00208 0.00174 0.00116 0.00122 0.00023 C 0.00174 -1.11111E-006 0.00157 -0.00092 0.00139 -0.00139 C 0.00157 -0.00393 0.00139 -0.00555 0.00052 -0.00532 C 0.00018 -0.00555 -0.00017 -0.00393 -0.00017 -0.00162 C 0.00018 -0.00069 -0.00017 -0.00023 0.00018 0.00139 C -3.61111000000001E-006 0.00139 0.00035 0.00232 0.00035 0.00208 C 0.00105 0.00486 0.00191 0.00579 0.00243 0.00602 C 0.00296 0.00533 0.00261 0.00347 0.00226 0.00185 C 0.00191 0.00093 0.00174 -1.11111000000003E-006 0.00087 -0.00069 C 0.0007 -0.00092 0.0007 -0.00162 0.00018 -0.00185 C -0.00086 -0.0037 -0.00208 -0.0037 -0.00225 -0.00324 C -0.0026 -0.00231 -0.00208 -0.00116 -0.00052 0.00023 C -0.00034 0.00093 0.00018 0.00139 0.0007 0.00208 C 0.00105 0.00208 0.00157 0.00232 0.00174 0.00162 C 0.00313 0.00255 0.00452 0.00255 0.00452 0.00185 C 0.00469 0.00139 0.00365 -1.11111E-006 0.00226 -0.00023 C 0.00157 -0.00046 0.00087 -0.00069 0.00018 -0.00092 C 0.00018 -0.00116 -0.00034 -0.00046 -0.00069 -0.00069 C -0.00208 -1.11111000000003E-006 -0.00329 0.00116 -0.00312 0.00185 C -0.00312 0.00232 -0.00173 0.00255 -0.00052 0.00255 C 0.00052 0.00232 0.00105 0.00185 0.00139 0.00162 C 0.00174 0.00116 0.00191 0.00093 0.00243 0.00023 C 0.0033 -0.00116 0.004 -0.00278 0.00365 -0.00324 C 0.00348 -0.00347 0.00226 -0.00324 0.00122 -0.00185 C 0.00105 -0.00116 0.00018 -0.00069 -3.61111E-006 -1.11111E-006 Z">
                                      <p:cBhvr>
                                        <p:cTn id="30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C 0.00052 0.00069 0.00069 0.00139 0.00087 0.00208 C 0.00225 0.00324 0.00347 0.00416 0.00382 0.00347 C 0.00382 0.00347 0.00364 0.00162 0.00225 0.00046 C 0.00191 -0.00047 0.00139 -0.00116 0.00087 -0.00162 C 0.00034 -0.00186 2.50000000000001E-006 -0.00209 -0.00035 -0.00232 C -0.00191 -0.00278 -0.0033 -0.00348 -0.00347 -0.00278 C -0.00365 -0.00209 -0.00278 -0.00093 -0.00122 3.33333E-006 C -0.00035 3.33333E-006 -0.00018 0.00046 0.00104 0.00046 C 0.00087 0.00069 0.00173 0.00069 0.00173 0.00092 C 0.00347 0.00069 0.00503 0.00023 0.00521 -0.00047 C 0.00486 -0.0007 0.00364 -0.00186 0.00225 -0.00186 C 0.00121 -0.00162 0.00034 -0.00186 0.00017 -0.00116 C -0.00018 -0.00116 -0.00052 -0.00116 -0.00104 -0.0007 C -0.00261 3.33332999999999E-006 -0.00347 0.00139 -0.0033 0.00208 C -0.00261 0.00231 -0.00191 0.00254 -0.00018 0.00092 C 0.00069 0.00069 0.00104 0.00046 0.00139 0.00023 C 0.00173 3.33333000000001E-006 0.00225 -0.00047 0.00191 -0.00139 C 0.0033 -0.00278 0.00382 -0.0044 0.00295 -0.00486 C 0.0026 -0.0051 0.00121 -0.00417 0.00052 -0.00255 C 0.00017 -0.00162 2.50000000000001E-006 -0.00093 -0.00035 -0.0007 C -0.00087 -0.00047 -0.00035 0.00046 -0.0007 0.00115 C -0.00087 0.00277 -0.00052 0.00463 0.00017 0.00486 C 0.00034 0.00486 0.00121 0.0037 0.00156 0.00162 C 0.00173 0.00046 0.00139 -0.00047 0.00139 -0.00093 C 0.00139 -0.00116 0.00121 -0.00162 0.00104 -0.00232 C 0.00069 -0.00417 -0.00018 -0.00533 -0.0007 -0.00533 C -0.00139 -0.00533 -0.00122 -0.00394 -0.0007 -0.00186 C -0.00052 -0.00139 -0.00018 0.00023 2.5E-006 3.33333E-006 Z">
                                      <p:cBhvr>
                                        <p:cTn id="32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C 0.0007 0.00023 0.00122 0.00046 0.00174 0.00046 C 0.00313 0.00023 0.004 0.00023 0.00417 -0.00069 C 0.00452 -0.00069 0.00382 -0.00185 0.00209 -0.00185 C 0.00122 -0.00208 0.00035 -0.00255 -0.00017 -0.00162 C -0.00052 -0.00208 -0.00104 -0.00162 -0.00139 -0.00139 C -0.0033 -0.00069 -0.00416 -0.00023 -0.00399 0.00093 C -0.00382 0.00139 -0.00278 0.00139 -0.00104 0.0007 C -0.00052 -1.11111000000003E-006 -1.94444000000001E-006 0.00046 0.00104 -0.00046 C 0.00104 -0.00023 0.00156 -0.00092 0.00139 -0.00092 C 0.0033 -0.00255 0.00365 -0.00393 0.00382 -0.00486 C 0.00313 -0.00486 0.00174 -0.00417 0.0007 -0.00324 C 0.00018 -0.00255 -0.00052 -0.00208 -0.00069 -0.00092 C -0.00087 -0.00046 -0.00139 -0.00023 -0.00139 0.00046 C -0.00243 0.00232 -0.00208 0.0037 -0.00173 0.00394 C -0.00087 0.00417 -0.00017 0.00301 0.00035 0.0007 C 0.00087 0.00023 0.00104 -0.00046 0.00139 -0.00139 C 0.00122 -0.00185 0.00122 -0.00255 0.0007 -0.00255 C 0.00104 -0.00463 0.00052 -0.00648 0.00018 -0.00625 C -0.00035 -0.00625 -0.00104 -0.00463 -0.00069 -0.00278 C -0.00069 -0.00185 -0.00069 -0.00092 -0.00069 0.00023 C -0.00087 0.00023 -0.00017 0.0007 -0.00035 0.00116 C 0.0007 0.00278 0.00174 0.00394 0.00226 0.00347 C 0.00261 0.00347 0.00243 0.00162 0.00209 -1.11111E-006 C 0.00156 -0.00116 0.00104 -0.00185 0.00087 -0.00208 C 0.00035 -0.00255 0.00018 -0.00255 -0.00052 -0.00301 C -0.00173 -0.0037 -0.00312 -0.00417 -0.0033 -0.0037 C -0.00347 -0.00347 -0.00295 -0.00185 -0.00156 -0.00092 C -0.00104 -0.00092 -0.00052 -1.11111E-006 -1.94444E-006 -1.11111E-006 Z">
                                      <p:cBhvr>
                                        <p:cTn id="34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40741E-007 C -0.00069 -0.00046 -0.00104 -0.00093 -0.00104 -0.00139 C -0.0026 -0.00208 -0.00399 -0.00278 -0.00417 -0.00208 C -0.00417 -0.00185 -0.00382 7.40741000000017E-007 -0.00226 0.00046 C -0.00156 0.00139 -0.00087 0.00185 -0.00035 0.00185 C 0.00017 0.00185 0.00052 0.00185 0.00122 0.00208 C 0.0026 0.00185 0.00399 0.00208 0.00399 0.00116 C 0.00399 0.00046 0.00278 -0.00023 0.00104 -0.00046 C 0.00035 -0.00023 5.55111512312578E-017 -0.00046 -0.00104 7.40741E-007 C -0.00104 -0.00023 -0.00156 0.00023 -0.00174 -0.00046 C -0.00347 0.00093 -0.00451 0.00185 -0.00486 0.00255 C -0.00451 0.00278 -0.00295 0.00324 -0.00174 0.00208 C -0.00035 0.00208 0.00017 0.00185 0.00017 0.00116 C 0.00052 0.00093 0.00104 0.00093 0.00122 0.00023 C 0.00278 -0.00116 0.00295 -0.00278 0.0026 -0.00324 C 0.00191 -0.00324 0.00139 -0.00278 -0.00017 -0.00093 C -0.00087 -0.00023 -0.00104 7.40741000000017E-007 -0.00139 0.00069 C -0.00156 0.00093 -0.00191 0.00139 -0.00156 0.00231 C -0.00243 0.00393 -0.0026 0.00555 -0.00174 0.00579 C -0.00122 0.00579 -0.00017 0.0044 5.55112E-017 0.00255 C 0.00035 0.00162 0.00035 0.00093 0.00069 0.00046 C 0.00087 -0.00023 0.00017 -0.0007 0.00069 -0.00139 C 0.00017 -0.00301 -0.00052 -0.00486 -0.00122 -0.0044 C -0.00139 -0.00486 -0.00174 -0.00301 -0.00174 -0.00093 C -0.00174 7.40741000000017E-007 -0.00104 0.00116 -0.00104 0.00162 C -0.00087 0.00185 -0.00035 0.00208 -0.00052 0.00278 C 0.00052 0.00417 0.00156 0.00509 0.00208 0.00486 C 0.0026 0.0044 0.00208 0.00324 0.00122 0.00162 C 0.00087 0.00069 0.00017 -0.00023 5.55112E-017 7.40741E-007 Z">
                                      <p:cBhvr>
                                        <p:cTn id="36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-0.0007 0.00046 -0.00122 0.00046 -0.00156 0.00093 C -0.00278 0.00185 -0.00382 0.00301 -0.00365 0.0037 C -0.00347 0.00394 -0.00243 0.00394 -0.00104 0.00301 C 1.11111000000003E-006 0.00278 0.00069 0.00208 0.00087 0.00162 C 0.00139 0.00139 0.00156 0.00093 0.00174 -7.40741E-007 C 0.00278 -0.00139 0.00382 -0.00278 0.00312 -0.00347 C 0.00278 -0.00393 0.00174 -0.00278 0.00052 -0.00139 C 1.11111000000003E-006 -0.00069 -0.00035 -7.40741000000017E-007 -0.0007 0.00116 C -0.00087 0.00116 -0.00104 0.00185 -0.00139 0.00208 C -0.00174 0.0044 -0.00174 0.00602 -0.00122 0.00648 C -0.0007 0.00695 1.11111000000003E-006 0.00509 0.00052 0.00324 C 0.00087 0.00232 0.00139 0.00139 0.00087 0.00046 C 0.00069 0.00023 0.00104 -0.00023 0.00087 -0.00116 C 0.00087 -0.00347 0.00017 -0.00463 -0.00017 -0.00463 C -0.0007 -0.00393 -0.00104 -0.00278 -0.0007 -0.00023 C -0.00087 0.00116 -0.0007 0.00116 -0.0007 0.00232 C -0.00052 0.00232 -0.00017 0.00324 0.00052 0.00301 C 0.00069 0.00486 0.00208 0.00625 0.00226 0.00556 C 0.0026 0.00463 0.0026 0.00324 0.00156 0.00162 C 0.00139 0.00093 0.00087 0.00046 0.00069 -0.00023 C 0.00052 -0.00069 -0.00017 -0.00069 -0.00052 -0.00116 C -0.00174 -0.00208 -0.00313 -0.00255 -0.00347 -0.00139 C -0.00347 -0.00093 -0.00278 0.00046 -0.00156 0.00139 C -0.00087 0.00208 -0.00017 0.00232 1.11111E-006 0.00208 C 0.00069 0.00208 0.00087 0.00232 0.00156 0.00232 C 0.0026 0.00185 0.00399 0.00185 0.00417 0.00093 C 0.00417 0.0007 0.0033 -0.00023 0.00174 -7.40741E-007 C 0.00121 -0.00023 0.00017 -7.40741E-007 1.11111E-006 -7.40741E-007 Z">
                                      <p:cBhvr>
                                        <p:cTn id="38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40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C 0.00018 -0.00069 0.00052 -0.00116 0.0007 -0.00185 C 0.00122 -0.0037 0.00139 -0.00555 0.00104 -0.00579 C 0.00052 -0.00602 -0.00034 -0.00486 -0.00087 -0.00301 C -0.00121 -0.00185 -0.00139 -0.00092 -0.00139 -0.00023 C -0.00156 0.00023 -0.00156 0.00093 -0.00156 0.00162 C -0.00156 0.00371 -0.00121 0.00556 -0.00069 0.00556 C -0.00017 0.00556 0.00018 0.00371 0.00018 0.00162 C 0.00018 0.00046 0.00018 -0.00046 -2.22222E-006 -0.00116 C -0.00017 -0.00162 -0.00034 -0.00231 -0.00052 -0.00278 C -0.00104 -0.00486 -0.00191 -0.00602 -0.00243 -0.00579 C -0.00278 -0.00555 -0.0026 -0.0037 -0.00208 -0.00162 C -0.00173 -0.00092 -0.00139 -1.85185E-006 -0.00104 0.00046 C -0.00087 0.00093 -0.00052 0.00139 -0.00017 0.00185 C 0.00087 0.00324 0.00209 0.00371 0.00243 0.00324 C 0.00261 0.00255 0.00209 0.00116 0.00087 -0.00023 C 0.00035 -0.00092 -2.22221999999995E-006 -0.00116 -0.00052 -0.00162 C -0.00087 -0.00185 -0.00139 -0.00208 -0.00173 -0.00208 C -0.00312 -0.00278 -0.00434 -0.00254 -0.00451 -0.00185 C -0.00451 -0.00116 -0.00364 -1.85185E-006 -0.00225 0.00046 C -0.00156 0.00046 -0.00104 0.0007 -0.00052 0.0007 C -0.00017 0.0007 0.00035 0.00046 0.00087 0.00046 C 0.00226 -1.85185E-006 0.0033 -0.00116 0.00313 -0.00185 C 0.00295 -0.00254 0.00174 -0.00278 0.00035 -0.00231 C -0.00017 -0.00208 -0.00087 -0.00162 -0.00121 -0.00139 C -0.00156 -0.00092 -0.00191 -0.00069 -0.00225 -0.00023 C -0.0033 0.00116 -0.00399 0.00255 -0.00364 0.00324 C -0.00347 0.00371 -0.00225 0.00324 -0.00121 0.00185 C -0.00069 0.00116 -0.00017 0.00046 -2.22222E-006 -1.85185E-006 Z">
                                      <p:cBhvr>
                                        <p:cTn id="42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0017 -2.22222000000001E-006 0.00069 -2.22222000000001E-006 0.00121 -0.00023 C 0.00243 -0.00116 0.00364 -0.00208 0.00347 -0.00278 C 0.00347 -0.00324 0.00226 -0.00324 0.00087 -0.00254 C 1.94444000000001E-006 -0.00231 -0.00087 -0.00208 -0.00122 -0.00162 C -0.00156 -0.00139 -0.00191 -0.00092 -0.00226 -0.00046 C -0.00347 0.00093 -0.00452 0.00232 -0.00399 0.00301 C -0.00365 0.00347 -0.00261 0.00278 -0.00122 0.00139 C -0.0007 0.0007 -0.00018 0.00023 0.00035 -0.00069 C 0.00035 -0.00092 0.00069 -0.00162 0.00087 -0.00185 C 0.00173 -0.00393 0.00191 -0.00555 0.00156 -0.00625 C 0.00104 -0.00625 1.94444000000001E-006 -0.00486 -0.0007 -0.00324 C -0.00104 -0.00231 -0.00156 -0.00139 -0.00122 -0.00069 C -0.00139 -0.00023 -0.00156 0.00047 -0.00156 0.00116 C -0.00174 0.00324 -0.00104 0.00463 -0.00087 0.00463 C -0.00018 0.0044 0.00017 0.00324 0.00017 0.0007 C 0.00035 -0.00046 0.00035 -0.00069 0.00035 -0.00162 C 1.94444000000001E-006 -0.00208 1.94444000000001E-006 -0.00278 -0.00052 -0.00301 C -0.00087 -0.00486 -0.00174 -0.00625 -0.00226 -0.00578 C -0.00278 -0.00509 -0.00278 -0.00347 -0.00209 -0.00185 C -0.00174 -0.00092 -0.00139 -0.00046 -0.00122 0.00023 C -0.00104 0.0007 -0.00035 0.0007 -0.00018 0.00139 C 0.00087 0.00255 0.00226 0.00301 0.00278 0.00209 C 0.00295 0.00162 0.00226 0.00023 0.00121 -0.00092 C 0.00052 -0.00162 1.94444000000001E-006 -0.00185 -0.00035 -0.00208 C -0.00087 -0.00208 -0.00104 -0.00231 -0.00174 -0.00231 C -0.00295 -0.00254 -0.00434 -0.00231 -0.00469 -0.00162 C -0.00469 -0.00092 -0.00365 -0.00023 -0.00226 -2.22222E-006 C -0.00156 0.00023 -0.0007 0.00023 -0.00052 0.00023 Z">
                                      <p:cBhvr>
                                        <p:cTn id="44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162 C -0.00104 -0.00208 -0.00139 -0.00255 -0.00191 -0.00278 C -0.0033 -0.00324 -0.00468 -0.00347 -0.00486 -0.00278 C -0.00503 -0.00255 -0.00416 -0.00139 -0.00277 -0.00069 C -0.00191 -0.00023 -0.00121 0.00046 -0.00069 0.00023 C -0.00034 0.00046 0.00018 0.00046 0.0007 0.00023 C 0.00226 0.00023 0.00365 0.00023 0.00365 -0.00093 C 0.00365 -0.00162 0.00243 -0.00185 0.0007 -0.00208 C -3.05556E-006 -0.00185 -0.00052 -0.00208 -0.00139 -0.00162 C -0.00156 -0.00162 -0.00208 -0.00139 -0.00243 -0.00139 C -0.00399 -0.00046 -0.00503 0.00069 -0.00503 0.00139 C -0.00468 0.00185 -0.00312 0.00185 -0.00191 0.00116 C -0.00121 0.00069 -0.00034 0.00046 -0.00017 -0.00046 C 0.00018 -0.00069 0.00052 -0.00093 0.00087 -0.00162 C 0.00209 -0.00301 0.00226 -0.00463 0.00209 -0.00486 C 0.00139 -0.00509 0.00052 -0.00463 -0.00069 -0.00255 C -0.00139 -0.00185 -0.00139 -0.00162 -0.00191 -0.00093 C -0.00191 -0.00046 -0.00225 0.00023 -0.00191 0.00069 C -0.0026 0.00255 -0.0026 0.0044 -0.00191 0.0044 C -0.00121 0.0044 -0.00034 0.00301 -0.00017 0.00116 C -3.05556E-006 0.00023 -3.05556E-006 -0.00046 0.00018 -0.00116 C 0.00035 -0.00162 -0.00017 -0.00232 -3.05556E-006 -0.00278 C -0.00034 -0.00463 -0.00121 -0.00625 -0.00191 -0.00602 C -0.00225 -0.00579 -0.00243 -0.00417 -0.00225 -0.00232 C -0.00208 -0.00116 -0.00173 -0.00046 -0.00156 3.7037E-007 C -0.00121 0.00046 -0.00121 0.00069 -0.00069 0.00139 C 0.00018 0.00255 0.00139 0.00347 0.00191 0.00324 C 0.00226 0.00278 0.00191 0.00139 0.00087 3.7037E-007 C 0.00052 -0.00069 -0.00017 -0.00162 -0.00034 -0.00162 Z">
                                      <p:cBhvr>
                                        <p:cTn id="46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C 0.00035 -0.00093 0.0007 -0.00139 0.00104 -0.00208 C 0.00139 -0.00417 0.00156 -0.00602 0.00104 -0.00602 C 0.00087 -0.00625 -0.00017 -0.00533 -0.00052 -0.00301 C -0.00104 -0.00208 -0.00139 -0.00139 -0.00139 -0.00046 C -0.00139 1.11110999999998E-006 -0.00156 0.00046 -0.00139 0.00116 C -0.00121 0.00347 -0.00121 0.00509 -0.00052 0.00509 C -2.22221999999995E-006 0.00532 0.00035 0.0037 0.00035 0.00139 C 0.00018 0.00046 0.00035 -0.00023 -0.00017 -0.00162 C 0.00018 -0.00162 -0.00017 -0.00255 -2.22222E-006 -0.00255 C -0.00087 -0.00463 -0.00173 -0.00625 -0.00225 -0.00648 C -0.00243 -0.00602 -0.0026 -0.00394 -0.00208 -0.00208 C -0.00156 -0.00116 -0.00139 1.11111E-006 -0.00087 0.00023 C -0.00069 0.00069 -0.00052 0.00116 -2.22222E-006 0.00139 C 0.00104 0.00324 0.00226 0.0037 0.00261 0.00324 C 0.00261 0.00231 0.00243 0.00139 0.0007 -0.00046 C 0.00018 -0.00139 -0.00017 -0.00162 -0.00034 -0.00208 C -0.00087 -0.00208 -0.00121 -0.00278 -0.00173 -0.00185 C -0.0033 -0.00301 -0.00451 -0.00301 -0.00451 -0.00208 C -0.00451 -0.00116 -0.0033 -0.00023 -0.00191 0.00023 C -0.00121 0.00046 -0.00069 0.00023 -0.00052 0.00069 C -2.22221999999995E-006 0.00092 0.00052 1.11110999999998E-006 0.00104 0.00046 C 0.00226 1.11110999999998E-006 0.00347 -0.00139 0.0033 -0.00232 C 0.00313 -0.00232 0.00191 -0.00278 0.00052 -0.00278 C -0.00034 -0.00232 -0.00087 -0.00162 -0.00139 -0.00139 C -0.00139 -0.00116 -0.00156 -0.00116 -0.00225 -0.00046 C -0.00312 0.00046 -0.00364 0.00231 -0.00347 0.00301 C -0.00312 0.00347 -0.00243 0.00278 -0.00104 0.00139 C -0.00069 0.00092 0.00018 1.11111E-006 -2.22222E-006 1.11111E-006 Z">
                                      <p:cBhvr>
                                        <p:cTn id="48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C -0.00052 0.00046 -0.00104 0.00069 -0.00139 0.00069 C -0.0026 0.00231 -0.00347 0.00347 -0.0033 0.00417 C -0.00312 0.0044 -0.00208 0.00393 -0.00052 0.00347 C 0.00017 0.00255 0.00087 0.00185 0.00104 0.00162 C 0.00156 0.00116 0.00174 0.00069 0.00174 7.40741E-007 C 0.00295 -0.00162 0.00382 -0.00324 0.00295 -0.00347 C 0.00261 -0.00417 0.00174 -0.00301 0.00052 -0.00139 C 0.00017 -0.00046 -0.00017 7.40741000000017E-007 -0.00035 0.00116 C -0.00069 0.00116 -0.00052 0.00231 -0.00087 0.00255 C -0.00139 0.00463 -0.00121 0.00625 -0.00052 0.00694 C -0.00035 0.00671 0.00052 0.00509 0.0007 0.00324 C 0.00122 0.00231 0.00156 0.00116 0.00104 0.00046 C 0.00087 7.40741000000017E-007 0.00122 -0.00046 0.00087 -0.00116 C 0.0007 -0.00347 -8.33333000000022E-007 -0.0044 -0.00035 -0.00463 C -0.00087 -0.00394 -0.00104 -0.00255 -0.00052 7.40741E-007 C -0.00052 0.00116 -0.00035 0.00116 -0.00035 0.00208 C -0.00017 0.00231 0.00035 0.00347 0.00052 0.00301 C 0.00139 0.00509 0.00261 0.00602 0.00261 0.00509 C 0.00313 0.00463 0.00295 0.00301 0.00191 0.00139 C 0.00156 0.00093 0.00104 0.00046 0.00087 -0.00023 C 0.0007 -0.0007 -0.00017 -0.00046 -0.00035 -0.00116 C -0.00174 -0.00185 -0.00312 -0.00208 -0.00347 -0.0007 C -0.00347 -0.00046 -0.0026 0.00069 -0.00139 0.00162 C -0.00052 0.00231 -8.33333000000022E-007 0.00231 0.00035 0.00231 C 0.00087 0.00185 0.00122 0.00231 0.00191 0.00208 C 0.00295 0.00185 0.00434 0.00116 0.00451 0.00046 C 0.00434 7.40741000000017E-007 0.0033 -0.00046 0.00191 -0.00023 C 0.00122 -0.00023 0.00035 7.40741E-007 -8.33333E-007 7.40741E-007 Z">
                                      <p:cBhvr>
                                        <p:cTn id="50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7 0.00023 0.00122 0.00046 0.00157 0.00092 C 0.0033 0.00069 0.00469 0.00023 0.00469 -0.00047 C 0.00452 -0.0007 0.00365 -0.00163 0.00191 -0.00139 C 0.00122 -0.00186 0.00035 -0.00209 -0.00017 -0.00186 C -0.00052 -0.00163 -0.00086 -0.00139 -0.00139 -0.00116 C -0.00277 -0.00047 -0.00416 0.00023 -0.00399 0.00115 C -0.00382 0.00162 -0.0026 0.00162 -0.00086 0.00115 C -0.00034 0.00046 0.00018 0.00046 0.00104 -0.00024 C 0.00104 4.81481E-006 0.00157 -0.00093 0.00174 -0.0007 C 0.00313 -0.00232 0.004 -0.00394 0.00382 -0.00463 C 0.00348 -0.00463 0.00191 -0.0044 0.00087 -0.00325 C 0.00018 -0.00209 -0.00052 -0.00163 -0.00034 -0.00093 C -0.00069 -0.00047 -0.00104 -0.00024 -0.00121 0.00069 C -0.00208 0.00231 -0.00191 0.00416 -0.00156 0.00439 C -0.00086 0.00416 -0.00017 0.0037 0.00035 0.00092 C 0.00087 4.81481000000003E-006 0.00104 -0.00024 0.00122 -0.00093 C 0.00122 -0.00139 0.00139 -0.00232 0.00087 -0.00255 C 0.00122 -0.00487 0.00087 -0.00649 -3.05556E-006 -0.00625 C -0.00052 -0.00602 -0.00104 -0.00417 -0.00069 -0.00232 C -0.00069 -0.00139 -0.00052 -0.0007 -0.00052 -0.00024 C -0.00086 0.00046 -3.05556E-006 0.00092 -3.05556E-006 0.00162 C 0.0007 0.003 0.00191 0.00416 0.00243 0.0037 C 0.00261 0.0037 0.00261 0.00185 0.00191 4.81481E-006 C 0.00157 -0.00093 0.00087 -0.00139 0.0007 -0.00186 C 0.00035 -0.00209 0.00018 -0.00209 -0.00034 -0.00278 C -0.00139 -0.00371 -0.00277 -0.00394 -0.00312 -0.00348 C -0.00364 -0.00278 -0.00277 -0.00186 -0.00139 -0.0007 C -0.00104 -0.00047 -0.00017 0.00046 -3.05556E-006 4.81481E-006 Z">
                                      <p:cBhvr>
                                        <p:cTn id="52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54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56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58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C -0.00034 0.0007 -0.00052 0.00139 -0.00069 0.00208 C -0.00104 0.00394 -0.00121 0.00509 -0.00069 0.00556 C -0.00069 0.00602 0.00035 0.00533 0.00087 0.00324 C 0.00122 0.00208 0.00174 0.00116 0.00122 0.00023 C 0.00174 -1.11111E-006 0.00157 -0.00092 0.00139 -0.00139 C 0.00157 -0.00393 0.00139 -0.00555 0.00052 -0.00532 C 0.00018 -0.00555 -0.00017 -0.00393 -0.00017 -0.00162 C 0.00018 -0.00069 -0.00017 -0.00023 0.00018 0.00139 C -3.61111000000001E-006 0.00139 0.00035 0.00232 0.00035 0.00208 C 0.00105 0.00486 0.00191 0.00579 0.00243 0.00602 C 0.00296 0.00533 0.00261 0.00347 0.00226 0.00185 C 0.00191 0.00093 0.00174 -1.11111000000003E-006 0.00087 -0.00069 C 0.0007 -0.00092 0.0007 -0.00162 0.00018 -0.00185 C -0.00086 -0.0037 -0.00208 -0.0037 -0.00225 -0.00324 C -0.0026 -0.00231 -0.00208 -0.00116 -0.00052 0.00023 C -0.00034 0.00093 0.00018 0.00139 0.0007 0.00208 C 0.00105 0.00208 0.00157 0.00232 0.00174 0.00162 C 0.00313 0.00255 0.00452 0.00255 0.00452 0.00185 C 0.00469 0.00139 0.00365 -1.11111E-006 0.00226 -0.00023 C 0.00157 -0.00046 0.00087 -0.00069 0.00018 -0.00092 C 0.00018 -0.00116 -0.00034 -0.00046 -0.00069 -0.00069 C -0.00208 -1.11111000000003E-006 -0.00329 0.00116 -0.00312 0.00185 C -0.00312 0.00232 -0.00173 0.00255 -0.00052 0.00255 C 0.00052 0.00232 0.00105 0.00185 0.00139 0.00162 C 0.00174 0.00116 0.00191 0.00093 0.00243 0.00023 C 0.0033 -0.00116 0.004 -0.00278 0.00365 -0.00324 C 0.00348 -0.00347 0.00226 -0.00324 0.00122 -0.00185 C 0.00105 -0.00116 0.00018 -0.00069 -3.61111E-006 -1.11111E-006 Z">
                                      <p:cBhvr>
                                        <p:cTn id="60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C 0.00052 0.00069 0.00069 0.00139 0.00087 0.00208 C 0.00225 0.00324 0.00347 0.00416 0.00382 0.00347 C 0.00382 0.00347 0.00364 0.00162 0.00225 0.00046 C 0.00191 -0.00047 0.00139 -0.00116 0.00087 -0.00162 C 0.00034 -0.00186 2.50000000000001E-006 -0.00209 -0.00035 -0.00232 C -0.00191 -0.00278 -0.0033 -0.00348 -0.00347 -0.00278 C -0.00365 -0.00209 -0.00278 -0.00093 -0.00122 3.33333E-006 C -0.00035 3.33333E-006 -0.00018 0.00046 0.00104 0.00046 C 0.00087 0.00069 0.00173 0.00069 0.00173 0.00092 C 0.00347 0.00069 0.00503 0.00023 0.00521 -0.00047 C 0.00486 -0.0007 0.00364 -0.00186 0.00225 -0.00186 C 0.00121 -0.00162 0.00034 -0.00186 0.00017 -0.00116 C -0.00018 -0.00116 -0.00052 -0.00116 -0.00104 -0.0007 C -0.00261 3.33332999999999E-006 -0.00347 0.00139 -0.0033 0.00208 C -0.00261 0.00231 -0.00191 0.00254 -0.00018 0.00092 C 0.00069 0.00069 0.00104 0.00046 0.00139 0.00023 C 0.00173 3.33333000000001E-006 0.00225 -0.00047 0.00191 -0.00139 C 0.0033 -0.00278 0.00382 -0.0044 0.00295 -0.00486 C 0.0026 -0.0051 0.00121 -0.00417 0.00052 -0.00255 C 0.00017 -0.00162 2.50000000000001E-006 -0.00093 -0.00035 -0.0007 C -0.00087 -0.00047 -0.00035 0.00046 -0.0007 0.00115 C -0.00087 0.00277 -0.00052 0.00463 0.00017 0.00486 C 0.00034 0.00486 0.00121 0.0037 0.00156 0.00162 C 0.00173 0.00046 0.00139 -0.00047 0.00139 -0.00093 C 0.00139 -0.00116 0.00121 -0.00162 0.00104 -0.00232 C 0.00069 -0.00417 -0.00018 -0.00533 -0.0007 -0.00533 C -0.00139 -0.00533 -0.00122 -0.00394 -0.0007 -0.00186 C -0.00052 -0.00139 -0.00018 0.00023 2.5E-006 3.33333E-006 Z">
                                      <p:cBhvr>
                                        <p:cTn id="62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C 0.0007 0.00023 0.00122 0.00046 0.00174 0.00046 C 0.00313 0.00023 0.004 0.00023 0.00417 -0.00069 C 0.00452 -0.00069 0.00382 -0.00185 0.00209 -0.00185 C 0.00122 -0.00208 0.00035 -0.00255 -0.00017 -0.00162 C -0.00052 -0.00208 -0.00104 -0.00162 -0.00139 -0.00139 C -0.0033 -0.00069 -0.00416 -0.00023 -0.00399 0.00093 C -0.00382 0.00139 -0.00278 0.00139 -0.00104 0.0007 C -0.00052 -1.11111000000003E-006 -1.94444000000001E-006 0.00046 0.00104 -0.00046 C 0.00104 -0.00023 0.00156 -0.00092 0.00139 -0.00092 C 0.0033 -0.00255 0.00365 -0.00393 0.00382 -0.00486 C 0.00313 -0.00486 0.00174 -0.00417 0.0007 -0.00324 C 0.00018 -0.00255 -0.00052 -0.00208 -0.00069 -0.00092 C -0.00087 -0.00046 -0.00139 -0.00023 -0.00139 0.00046 C -0.00243 0.00232 -0.00208 0.0037 -0.00173 0.00394 C -0.00087 0.00417 -0.00017 0.00301 0.00035 0.0007 C 0.00087 0.00023 0.00104 -0.00046 0.00139 -0.00139 C 0.00122 -0.00185 0.00122 -0.00255 0.0007 -0.00255 C 0.00104 -0.00463 0.00052 -0.00648 0.00018 -0.00625 C -0.00035 -0.00625 -0.00104 -0.00463 -0.00069 -0.00278 C -0.00069 -0.00185 -0.00069 -0.00092 -0.00069 0.00023 C -0.00087 0.00023 -0.00017 0.0007 -0.00035 0.00116 C 0.0007 0.00278 0.00174 0.00394 0.00226 0.00347 C 0.00261 0.00347 0.00243 0.00162 0.00209 -1.11111E-006 C 0.00156 -0.00116 0.00104 -0.00185 0.00087 -0.00208 C 0.00035 -0.00255 0.00018 -0.00255 -0.00052 -0.00301 C -0.00173 -0.0037 -0.00312 -0.00417 -0.0033 -0.0037 C -0.00347 -0.00347 -0.00295 -0.00185 -0.00156 -0.00092 C -0.00104 -0.00092 -0.00052 -1.11111E-006 -1.94444E-006 -1.11111E-006 Z">
                                      <p:cBhvr>
                                        <p:cTn id="64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40741E-007 C -0.00069 -0.00046 -0.00104 -0.00093 -0.00104 -0.00139 C -0.0026 -0.00208 -0.00399 -0.00278 -0.00417 -0.00208 C -0.00417 -0.00185 -0.00382 7.40741000000017E-007 -0.00226 0.00046 C -0.00156 0.00139 -0.00087 0.00185 -0.00035 0.00185 C 0.00017 0.00185 0.00052 0.00185 0.00122 0.00208 C 0.0026 0.00185 0.00399 0.00208 0.00399 0.00116 C 0.00399 0.00046 0.00278 -0.00023 0.00104 -0.00046 C 0.00035 -0.00023 5.55111512312578E-017 -0.00046 -0.00104 7.40741E-007 C -0.00104 -0.00023 -0.00156 0.00023 -0.00174 -0.00046 C -0.00347 0.00093 -0.00451 0.00185 -0.00486 0.00255 C -0.00451 0.00278 -0.00295 0.00324 -0.00174 0.00208 C -0.00035 0.00208 0.00017 0.00185 0.00017 0.00116 C 0.00052 0.00093 0.00104 0.00093 0.00122 0.00023 C 0.00278 -0.00116 0.00295 -0.00278 0.0026 -0.00324 C 0.00191 -0.00324 0.00139 -0.00278 -0.00017 -0.00093 C -0.00087 -0.00023 -0.00104 7.40741000000017E-007 -0.00139 0.00069 C -0.00156 0.00093 -0.00191 0.00139 -0.00156 0.00231 C -0.00243 0.00393 -0.0026 0.00555 -0.00174 0.00579 C -0.00122 0.00579 -0.00017 0.0044 5.55112E-017 0.00255 C 0.00035 0.00162 0.00035 0.00093 0.00069 0.00046 C 0.00087 -0.00023 0.00017 -0.0007 0.00069 -0.00139 C 0.00017 -0.00301 -0.00052 -0.00486 -0.00122 -0.0044 C -0.00139 -0.00486 -0.00174 -0.00301 -0.00174 -0.00093 C -0.00174 7.40741000000017E-007 -0.00104 0.00116 -0.00104 0.00162 C -0.00087 0.00185 -0.00035 0.00208 -0.00052 0.00278 C 0.00052 0.00417 0.00156 0.00509 0.00208 0.00486 C 0.0026 0.0044 0.00208 0.00324 0.00122 0.00162 C 0.00087 0.00069 0.00017 -0.00023 5.55112E-017 7.40741E-007 Z">
                                      <p:cBhvr>
                                        <p:cTn id="66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-0.0007 0.00046 -0.00122 0.00046 -0.00156 0.00093 C -0.00278 0.00185 -0.00382 0.00301 -0.00365 0.0037 C -0.00347 0.00394 -0.00243 0.00394 -0.00104 0.00301 C 1.11111000000003E-006 0.00278 0.00069 0.00208 0.00087 0.00162 C 0.00139 0.00139 0.00156 0.00093 0.00174 -7.40741E-007 C 0.00278 -0.00139 0.00382 -0.00278 0.00312 -0.00347 C 0.00278 -0.00393 0.00174 -0.00278 0.00052 -0.00139 C 1.11111000000003E-006 -0.00069 -0.00035 -7.40741000000017E-007 -0.0007 0.00116 C -0.00087 0.00116 -0.00104 0.00185 -0.00139 0.00208 C -0.00174 0.0044 -0.00174 0.00602 -0.00122 0.00648 C -0.0007 0.00695 1.11111000000003E-006 0.00509 0.00052 0.00324 C 0.00087 0.00232 0.00139 0.00139 0.00087 0.00046 C 0.00069 0.00023 0.00104 -0.00023 0.00087 -0.00116 C 0.00087 -0.00347 0.00017 -0.00463 -0.00017 -0.00463 C -0.0007 -0.00393 -0.00104 -0.00278 -0.0007 -0.00023 C -0.00087 0.00116 -0.0007 0.00116 -0.0007 0.00232 C -0.00052 0.00232 -0.00017 0.00324 0.00052 0.00301 C 0.00069 0.00486 0.00208 0.00625 0.00226 0.00556 C 0.0026 0.00463 0.0026 0.00324 0.00156 0.00162 C 0.00139 0.00093 0.00087 0.00046 0.00069 -0.00023 C 0.00052 -0.00069 -0.00017 -0.00069 -0.00052 -0.00116 C -0.00174 -0.00208 -0.00313 -0.00255 -0.00347 -0.00139 C -0.00347 -0.00093 -0.00278 0.00046 -0.00156 0.00139 C -0.00087 0.00208 -0.00017 0.00232 1.11111E-006 0.00208 C 0.00069 0.00208 0.00087 0.00232 0.00156 0.00232 C 0.0026 0.00185 0.00399 0.00185 0.00417 0.00093 C 0.00417 0.0007 0.0033 -0.00023 0.00174 -7.40741E-007 C 0.00121 -0.00023 0.00017 -7.40741E-007 1.11111E-006 -7.40741E-007 Z">
                                      <p:cBhvr>
                                        <p:cTn id="68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70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C 0.00018 -0.00069 0.00052 -0.00116 0.0007 -0.00185 C 0.00122 -0.0037 0.00139 -0.00555 0.00104 -0.00579 C 0.00052 -0.00602 -0.00034 -0.00486 -0.00087 -0.00301 C -0.00121 -0.00185 -0.00139 -0.00092 -0.00139 -0.00023 C -0.00156 0.00023 -0.00156 0.00093 -0.00156 0.00162 C -0.00156 0.00371 -0.00121 0.00556 -0.00069 0.00556 C -0.00017 0.00556 0.00018 0.00371 0.00018 0.00162 C 0.00018 0.00046 0.00018 -0.00046 -2.22222E-006 -0.00116 C -0.00017 -0.00162 -0.00034 -0.00231 -0.00052 -0.00278 C -0.00104 -0.00486 -0.00191 -0.00602 -0.00243 -0.00579 C -0.00278 -0.00555 -0.0026 -0.0037 -0.00208 -0.00162 C -0.00173 -0.00092 -0.00139 -1.85185E-006 -0.00104 0.00046 C -0.00087 0.00093 -0.00052 0.00139 -0.00017 0.00185 C 0.00087 0.00324 0.00209 0.00371 0.00243 0.00324 C 0.00261 0.00255 0.00209 0.00116 0.00087 -0.00023 C 0.00035 -0.00092 -2.22221999999995E-006 -0.00116 -0.00052 -0.00162 C -0.00087 -0.00185 -0.00139 -0.00208 -0.00173 -0.00208 C -0.00312 -0.00278 -0.00434 -0.00254 -0.00451 -0.00185 C -0.00451 -0.00116 -0.00364 -1.85185E-006 -0.00225 0.00046 C -0.00156 0.00046 -0.00104 0.0007 -0.00052 0.0007 C -0.00017 0.0007 0.00035 0.00046 0.00087 0.00046 C 0.00226 -1.85185E-006 0.0033 -0.00116 0.00313 -0.00185 C 0.00295 -0.00254 0.00174 -0.00278 0.00035 -0.00231 C -0.00017 -0.00208 -0.00087 -0.00162 -0.00121 -0.00139 C -0.00156 -0.00092 -0.00191 -0.00069 -0.00225 -0.00023 C -0.0033 0.00116 -0.00399 0.00255 -0.00364 0.00324 C -0.00347 0.00371 -0.00225 0.00324 -0.00121 0.00185 C -0.00069 0.00116 -0.00017 0.00046 -2.22222E-006 -1.85185E-006 Z">
                                      <p:cBhvr>
                                        <p:cTn id="72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0017 -2.22222000000001E-006 0.00069 -2.22222000000001E-006 0.00121 -0.00023 C 0.00243 -0.00116 0.00364 -0.00208 0.00347 -0.00278 C 0.00347 -0.00324 0.00226 -0.00324 0.00087 -0.00254 C 1.94444000000001E-006 -0.00231 -0.00087 -0.00208 -0.00122 -0.00162 C -0.00156 -0.00139 -0.00191 -0.00092 -0.00226 -0.00046 C -0.00347 0.00093 -0.00452 0.00232 -0.00399 0.00301 C -0.00365 0.00347 -0.00261 0.00278 -0.00122 0.00139 C -0.0007 0.0007 -0.00018 0.00023 0.00035 -0.00069 C 0.00035 -0.00092 0.00069 -0.00162 0.00087 -0.00185 C 0.00173 -0.00393 0.00191 -0.00555 0.00156 -0.00625 C 0.00104 -0.00625 1.94444000000001E-006 -0.00486 -0.0007 -0.00324 C -0.00104 -0.00231 -0.00156 -0.00139 -0.00122 -0.00069 C -0.00139 -0.00023 -0.00156 0.00047 -0.00156 0.00116 C -0.00174 0.00324 -0.00104 0.00463 -0.00087 0.00463 C -0.00018 0.0044 0.00017 0.00324 0.00017 0.0007 C 0.00035 -0.00046 0.00035 -0.00069 0.00035 -0.00162 C 1.94444000000001E-006 -0.00208 1.94444000000001E-006 -0.00278 -0.00052 -0.00301 C -0.00087 -0.00486 -0.00174 -0.00625 -0.00226 -0.00578 C -0.00278 -0.00509 -0.00278 -0.00347 -0.00209 -0.00185 C -0.00174 -0.00092 -0.00139 -0.00046 -0.00122 0.00023 C -0.00104 0.0007 -0.00035 0.0007 -0.00018 0.00139 C 0.00087 0.00255 0.00226 0.00301 0.00278 0.00209 C 0.00295 0.00162 0.00226 0.00023 0.00121 -0.00092 C 0.00052 -0.00162 1.94444000000001E-006 -0.00185 -0.00035 -0.00208 C -0.00087 -0.00208 -0.00104 -0.00231 -0.00174 -0.00231 C -0.00295 -0.00254 -0.00434 -0.00231 -0.00469 -0.00162 C -0.00469 -0.00092 -0.00365 -0.00023 -0.00226 -2.22222E-006 C -0.00156 0.00023 -0.0007 0.00023 -0.00052 0.00023 Z">
                                      <p:cBhvr>
                                        <p:cTn id="74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162 C -0.00104 -0.00208 -0.00139 -0.00255 -0.00191 -0.00278 C -0.0033 -0.00324 -0.00468 -0.00347 -0.00486 -0.00278 C -0.00503 -0.00255 -0.00416 -0.00139 -0.00277 -0.00069 C -0.00191 -0.00023 -0.00121 0.00046 -0.00069 0.00023 C -0.00034 0.00046 0.00018 0.00046 0.0007 0.00023 C 0.00226 0.00023 0.00365 0.00023 0.00365 -0.00093 C 0.00365 -0.00162 0.00243 -0.00185 0.0007 -0.00208 C -3.05556E-006 -0.00185 -0.00052 -0.00208 -0.00139 -0.00162 C -0.00156 -0.00162 -0.00208 -0.00139 -0.00243 -0.00139 C -0.00399 -0.00046 -0.00503 0.00069 -0.00503 0.00139 C -0.00468 0.00185 -0.00312 0.00185 -0.00191 0.00116 C -0.00121 0.00069 -0.00034 0.00046 -0.00017 -0.00046 C 0.00018 -0.00069 0.00052 -0.00093 0.00087 -0.00162 C 0.00209 -0.00301 0.00226 -0.00463 0.00209 -0.00486 C 0.00139 -0.00509 0.00052 -0.00463 -0.00069 -0.00255 C -0.00139 -0.00185 -0.00139 -0.00162 -0.00191 -0.00093 C -0.00191 -0.00046 -0.00225 0.00023 -0.00191 0.00069 C -0.0026 0.00255 -0.0026 0.0044 -0.00191 0.0044 C -0.00121 0.0044 -0.00034 0.00301 -0.00017 0.00116 C -3.05556E-006 0.00023 -3.05556E-006 -0.00046 0.00018 -0.00116 C 0.00035 -0.00162 -0.00017 -0.00232 -3.05556E-006 -0.00278 C -0.00034 -0.00463 -0.00121 -0.00625 -0.00191 -0.00602 C -0.00225 -0.00579 -0.00243 -0.00417 -0.00225 -0.00232 C -0.00208 -0.00116 -0.00173 -0.00046 -0.00156 3.7037E-007 C -0.00121 0.00046 -0.00121 0.00069 -0.00069 0.00139 C 0.00018 0.00255 0.00139 0.00347 0.00191 0.00324 C 0.00226 0.00278 0.00191 0.00139 0.00087 3.7037E-007 C 0.00052 -0.00069 -0.00017 -0.00162 -0.00034 -0.00162 Z">
                                      <p:cBhvr>
                                        <p:cTn id="76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C 0.00035 -0.00093 0.0007 -0.00139 0.00104 -0.00208 C 0.00139 -0.00417 0.00156 -0.00602 0.00104 -0.00602 C 0.00087 -0.00625 -0.00017 -0.00533 -0.00052 -0.00301 C -0.00104 -0.00208 -0.00139 -0.00139 -0.00139 -0.00046 C -0.00139 1.11110999999998E-006 -0.00156 0.00046 -0.00139 0.00116 C -0.00121 0.00347 -0.00121 0.00509 -0.00052 0.00509 C -2.22221999999995E-006 0.00532 0.00035 0.0037 0.00035 0.00139 C 0.00018 0.00046 0.00035 -0.00023 -0.00017 -0.00162 C 0.00018 -0.00162 -0.00017 -0.00255 -2.22222E-006 -0.00255 C -0.00087 -0.00463 -0.00173 -0.00625 -0.00225 -0.00648 C -0.00243 -0.00602 -0.0026 -0.00394 -0.00208 -0.00208 C -0.00156 -0.00116 -0.00139 1.11111E-006 -0.00087 0.00023 C -0.00069 0.00069 -0.00052 0.00116 -2.22222E-006 0.00139 C 0.00104 0.00324 0.00226 0.0037 0.00261 0.00324 C 0.00261 0.00231 0.00243 0.00139 0.0007 -0.00046 C 0.00018 -0.00139 -0.00017 -0.00162 -0.00034 -0.00208 C -0.00087 -0.00208 -0.00121 -0.00278 -0.00173 -0.00185 C -0.0033 -0.00301 -0.00451 -0.00301 -0.00451 -0.00208 C -0.00451 -0.00116 -0.0033 -0.00023 -0.00191 0.00023 C -0.00121 0.00046 -0.00069 0.00023 -0.00052 0.00069 C -2.22221999999995E-006 0.00092 0.00052 1.11110999999998E-006 0.00104 0.00046 C 0.00226 1.11110999999998E-006 0.00347 -0.00139 0.0033 -0.00232 C 0.00313 -0.00232 0.00191 -0.00278 0.00052 -0.00278 C -0.00034 -0.00232 -0.00087 -0.00162 -0.00139 -0.00139 C -0.00139 -0.00116 -0.00156 -0.00116 -0.00225 -0.00046 C -0.00312 0.00046 -0.00364 0.00231 -0.00347 0.00301 C -0.00312 0.00347 -0.00243 0.00278 -0.00104 0.00139 C -0.00069 0.00092 0.00018 1.11111E-006 -2.22222E-006 1.11111E-006 Z">
                                      <p:cBhvr>
                                        <p:cTn id="78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C -0.00052 0.00046 -0.00104 0.00069 -0.00139 0.00069 C -0.0026 0.00231 -0.00347 0.00347 -0.0033 0.00417 C -0.00312 0.0044 -0.00208 0.00393 -0.00052 0.00347 C 0.00017 0.00255 0.00087 0.00185 0.00104 0.00162 C 0.00156 0.00116 0.00174 0.00069 0.00174 7.40741E-007 C 0.00295 -0.00162 0.00382 -0.00324 0.00295 -0.00347 C 0.00261 -0.00417 0.00174 -0.00301 0.00052 -0.00139 C 0.00017 -0.00046 -0.00017 7.40741000000017E-007 -0.00035 0.00116 C -0.00069 0.00116 -0.00052 0.00231 -0.00087 0.00255 C -0.00139 0.00463 -0.00121 0.00625 -0.00052 0.00694 C -0.00035 0.00671 0.00052 0.00509 0.0007 0.00324 C 0.00122 0.00231 0.00156 0.00116 0.00104 0.00046 C 0.00087 7.40741000000017E-007 0.00122 -0.00046 0.00087 -0.00116 C 0.0007 -0.00347 -8.33333000000022E-007 -0.0044 -0.00035 -0.00463 C -0.00087 -0.00394 -0.00104 -0.00255 -0.00052 7.40741E-007 C -0.00052 0.00116 -0.00035 0.00116 -0.00035 0.00208 C -0.00017 0.00231 0.00035 0.00347 0.00052 0.00301 C 0.00139 0.00509 0.00261 0.00602 0.00261 0.00509 C 0.00313 0.00463 0.00295 0.00301 0.00191 0.00139 C 0.00156 0.00093 0.00104 0.00046 0.00087 -0.00023 C 0.0007 -0.0007 -0.00017 -0.00046 -0.00035 -0.00116 C -0.00174 -0.00185 -0.00312 -0.00208 -0.00347 -0.0007 C -0.00347 -0.00046 -0.0026 0.00069 -0.00139 0.00162 C -0.00052 0.00231 -8.33333000000022E-007 0.00231 0.00035 0.00231 C 0.00087 0.00185 0.00122 0.00231 0.00191 0.00208 C 0.00295 0.00185 0.00434 0.00116 0.00451 0.00046 C 0.00434 7.40741000000017E-007 0.0033 -0.00046 0.00191 -0.00023 C 0.00122 -0.00023 0.00035 7.40741E-007 -8.33333E-007 7.40741E-007 Z">
                                      <p:cBhvr>
                                        <p:cTn id="80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7 0.00023 0.00122 0.00046 0.00157 0.00092 C 0.0033 0.00069 0.00469 0.00023 0.00469 -0.00047 C 0.00452 -0.0007 0.00365 -0.00163 0.00191 -0.00139 C 0.00122 -0.00186 0.00035 -0.00209 -0.00017 -0.00186 C -0.00052 -0.00163 -0.00086 -0.00139 -0.00139 -0.00116 C -0.00277 -0.00047 -0.00416 0.00023 -0.00399 0.00115 C -0.00382 0.00162 -0.0026 0.00162 -0.00086 0.00115 C -0.00034 0.00046 0.00018 0.00046 0.00104 -0.00024 C 0.00104 4.81481E-006 0.00157 -0.00093 0.00174 -0.0007 C 0.00313 -0.00232 0.004 -0.00394 0.00382 -0.00463 C 0.00348 -0.00463 0.00191 -0.0044 0.00087 -0.00325 C 0.00018 -0.00209 -0.00052 -0.00163 -0.00034 -0.00093 C -0.00069 -0.00047 -0.00104 -0.00024 -0.00121 0.00069 C -0.00208 0.00231 -0.00191 0.00416 -0.00156 0.00439 C -0.00086 0.00416 -0.00017 0.0037 0.00035 0.00092 C 0.00087 4.81481000000003E-006 0.00104 -0.00024 0.00122 -0.00093 C 0.00122 -0.00139 0.00139 -0.00232 0.00087 -0.00255 C 0.00122 -0.00487 0.00087 -0.00649 -3.05556E-006 -0.00625 C -0.00052 -0.00602 -0.00104 -0.00417 -0.00069 -0.00232 C -0.00069 -0.00139 -0.00052 -0.0007 -0.00052 -0.00024 C -0.00086 0.00046 -3.05556E-006 0.00092 -3.05556E-006 0.00162 C 0.0007 0.003 0.00191 0.00416 0.00243 0.0037 C 0.00261 0.0037 0.00261 0.00185 0.00191 4.81481E-006 C 0.00157 -0.00093 0.00087 -0.00139 0.0007 -0.00186 C 0.00035 -0.00209 0.00018 -0.00209 -0.00034 -0.00278 C -0.00139 -0.00371 -0.00277 -0.00394 -0.00312 -0.00348 C -0.00364 -0.00278 -0.00277 -0.00186 -0.00139 -0.0007 C -0.00104 -0.00047 -0.00017 0.00046 -3.05556E-006 4.81481E-006 Z">
                                      <p:cBhvr>
                                        <p:cTn id="82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84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86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88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C -0.00034 0.0007 -0.00052 0.00139 -0.00069 0.00208 C -0.00104 0.00394 -0.00121 0.00509 -0.00069 0.00556 C -0.00069 0.00602 0.00035 0.00533 0.00087 0.00324 C 0.00122 0.00208 0.00174 0.00116 0.00122 0.00023 C 0.00174 -1.11111E-006 0.00157 -0.00092 0.00139 -0.00139 C 0.00157 -0.00393 0.00139 -0.00555 0.00052 -0.00532 C 0.00018 -0.00555 -0.00017 -0.00393 -0.00017 -0.00162 C 0.00018 -0.00069 -0.00017 -0.00023 0.00018 0.00139 C -3.61111000000001E-006 0.00139 0.00035 0.00232 0.00035 0.00208 C 0.00105 0.00486 0.00191 0.00579 0.00243 0.00602 C 0.00296 0.00533 0.00261 0.00347 0.00226 0.00185 C 0.00191 0.00093 0.00174 -1.11111000000003E-006 0.00087 -0.00069 C 0.0007 -0.00092 0.0007 -0.00162 0.00018 -0.00185 C -0.00086 -0.0037 -0.00208 -0.0037 -0.00225 -0.00324 C -0.0026 -0.00231 -0.00208 -0.00116 -0.00052 0.00023 C -0.00034 0.00093 0.00018 0.00139 0.0007 0.00208 C 0.00105 0.00208 0.00157 0.00232 0.00174 0.00162 C 0.00313 0.00255 0.00452 0.00255 0.00452 0.00185 C 0.00469 0.00139 0.00365 -1.11111E-006 0.00226 -0.00023 C 0.00157 -0.00046 0.00087 -0.00069 0.00018 -0.00092 C 0.00018 -0.00116 -0.00034 -0.00046 -0.00069 -0.00069 C -0.00208 -1.11111000000003E-006 -0.00329 0.00116 -0.00312 0.00185 C -0.00312 0.00232 -0.00173 0.00255 -0.00052 0.00255 C 0.00052 0.00232 0.00105 0.00185 0.00139 0.00162 C 0.00174 0.00116 0.00191 0.00093 0.00243 0.00023 C 0.0033 -0.00116 0.004 -0.00278 0.00365 -0.00324 C 0.00348 -0.00347 0.00226 -0.00324 0.00122 -0.00185 C 0.00105 -0.00116 0.00018 -0.00069 -3.61111E-006 -1.11111E-006 Z">
                                      <p:cBhvr>
                                        <p:cTn id="90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C 0.00052 0.00069 0.00069 0.00139 0.00087 0.00208 C 0.00225 0.00324 0.00347 0.00416 0.00382 0.00347 C 0.00382 0.00347 0.00364 0.00162 0.00225 0.00046 C 0.00191 -0.00047 0.00139 -0.00116 0.00087 -0.00162 C 0.00034 -0.00186 2.50000000000001E-006 -0.00209 -0.00035 -0.00232 C -0.00191 -0.00278 -0.0033 -0.00348 -0.00347 -0.00278 C -0.00365 -0.00209 -0.00278 -0.00093 -0.00122 3.33333E-006 C -0.00035 3.33333E-006 -0.00018 0.00046 0.00104 0.00046 C 0.00087 0.00069 0.00173 0.00069 0.00173 0.00092 C 0.00347 0.00069 0.00503 0.00023 0.00521 -0.00047 C 0.00486 -0.0007 0.00364 -0.00186 0.00225 -0.00186 C 0.00121 -0.00162 0.00034 -0.00186 0.00017 -0.00116 C -0.00018 -0.00116 -0.00052 -0.00116 -0.00104 -0.0007 C -0.00261 3.33332999999999E-006 -0.00347 0.00139 -0.0033 0.00208 C -0.00261 0.00231 -0.00191 0.00254 -0.00018 0.00092 C 0.00069 0.00069 0.00104 0.00046 0.00139 0.00023 C 0.00173 3.33333000000001E-006 0.00225 -0.00047 0.00191 -0.00139 C 0.0033 -0.00278 0.00382 -0.0044 0.00295 -0.00486 C 0.0026 -0.0051 0.00121 -0.00417 0.00052 -0.00255 C 0.00017 -0.00162 2.50000000000001E-006 -0.00093 -0.00035 -0.0007 C -0.00087 -0.00047 -0.00035 0.00046 -0.0007 0.00115 C -0.00087 0.00277 -0.00052 0.00463 0.00017 0.00486 C 0.00034 0.00486 0.00121 0.0037 0.00156 0.00162 C 0.00173 0.00046 0.00139 -0.00047 0.00139 -0.00093 C 0.00139 -0.00116 0.00121 -0.00162 0.00104 -0.00232 C 0.00069 -0.00417 -0.00018 -0.00533 -0.0007 -0.00533 C -0.00139 -0.00533 -0.00122 -0.00394 -0.0007 -0.00186 C -0.00052 -0.00139 -0.00018 0.00023 2.5E-006 3.33333E-006 Z">
                                      <p:cBhvr>
                                        <p:cTn id="92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C 0.0007 0.00023 0.00122 0.00046 0.00174 0.00046 C 0.00313 0.00023 0.004 0.00023 0.00417 -0.00069 C 0.00452 -0.00069 0.00382 -0.00185 0.00209 -0.00185 C 0.00122 -0.00208 0.00035 -0.00255 -0.00017 -0.00162 C -0.00052 -0.00208 -0.00104 -0.00162 -0.00139 -0.00139 C -0.0033 -0.00069 -0.00416 -0.00023 -0.00399 0.00093 C -0.00382 0.00139 -0.00278 0.00139 -0.00104 0.0007 C -0.00052 -1.11111000000003E-006 -1.94444000000001E-006 0.00046 0.00104 -0.00046 C 0.00104 -0.00023 0.00156 -0.00092 0.00139 -0.00092 C 0.0033 -0.00255 0.00365 -0.00393 0.00382 -0.00486 C 0.00313 -0.00486 0.00174 -0.00417 0.0007 -0.00324 C 0.00018 -0.00255 -0.00052 -0.00208 -0.00069 -0.00092 C -0.00087 -0.00046 -0.00139 -0.00023 -0.00139 0.00046 C -0.00243 0.00232 -0.00208 0.0037 -0.00173 0.00394 C -0.00087 0.00417 -0.00017 0.00301 0.00035 0.0007 C 0.00087 0.00023 0.00104 -0.00046 0.00139 -0.00139 C 0.00122 -0.00185 0.00122 -0.00255 0.0007 -0.00255 C 0.00104 -0.00463 0.00052 -0.00648 0.00018 -0.00625 C -0.00035 -0.00625 -0.00104 -0.00463 -0.00069 -0.00278 C -0.00069 -0.00185 -0.00069 -0.00092 -0.00069 0.00023 C -0.00087 0.00023 -0.00017 0.0007 -0.00035 0.00116 C 0.0007 0.00278 0.00174 0.00394 0.00226 0.00347 C 0.00261 0.00347 0.00243 0.00162 0.00209 -1.11111E-006 C 0.00156 -0.00116 0.00104 -0.00185 0.00087 -0.00208 C 0.00035 -0.00255 0.00018 -0.00255 -0.00052 -0.00301 C -0.00173 -0.0037 -0.00312 -0.00417 -0.0033 -0.0037 C -0.00347 -0.00347 -0.00295 -0.00185 -0.00156 -0.00092 C -0.00104 -0.00092 -0.00052 -1.11111E-006 -1.94444E-006 -1.11111E-006 Z">
                                      <p:cBhvr>
                                        <p:cTn id="94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40741E-007 C -0.00069 -0.00046 -0.00104 -0.00093 -0.00104 -0.00139 C -0.0026 -0.00208 -0.00399 -0.00278 -0.00417 -0.00208 C -0.00417 -0.00185 -0.00382 7.40741000000017E-007 -0.00226 0.00046 C -0.00156 0.00139 -0.00087 0.00185 -0.00035 0.00185 C 0.00017 0.00185 0.00052 0.00185 0.00122 0.00208 C 0.0026 0.00185 0.00399 0.00208 0.00399 0.00116 C 0.00399 0.00046 0.00278 -0.00023 0.00104 -0.00046 C 0.00035 -0.00023 5.55111512312578E-017 -0.00046 -0.00104 7.40741E-007 C -0.00104 -0.00023 -0.00156 0.00023 -0.00174 -0.00046 C -0.00347 0.00093 -0.00451 0.00185 -0.00486 0.00255 C -0.00451 0.00278 -0.00295 0.00324 -0.00174 0.00208 C -0.00035 0.00208 0.00017 0.00185 0.00017 0.00116 C 0.00052 0.00093 0.00104 0.00093 0.00122 0.00023 C 0.00278 -0.00116 0.00295 -0.00278 0.0026 -0.00324 C 0.00191 -0.00324 0.00139 -0.00278 -0.00017 -0.00093 C -0.00087 -0.00023 -0.00104 7.40741000000017E-007 -0.00139 0.00069 C -0.00156 0.00093 -0.00191 0.00139 -0.00156 0.00231 C -0.00243 0.00393 -0.0026 0.00555 -0.00174 0.00579 C -0.00122 0.00579 -0.00017 0.0044 5.55112E-017 0.00255 C 0.00035 0.00162 0.00035 0.00093 0.00069 0.00046 C 0.00087 -0.00023 0.00017 -0.0007 0.00069 -0.00139 C 0.00017 -0.00301 -0.00052 -0.00486 -0.00122 -0.0044 C -0.00139 -0.00486 -0.00174 -0.00301 -0.00174 -0.00093 C -0.00174 7.40741000000017E-007 -0.00104 0.00116 -0.00104 0.00162 C -0.00087 0.00185 -0.00035 0.00208 -0.00052 0.00278 C 0.00052 0.00417 0.00156 0.00509 0.00208 0.00486 C 0.0026 0.0044 0.00208 0.00324 0.00122 0.00162 C 0.00087 0.00069 0.00017 -0.00023 5.55112E-017 7.40741E-007 Z">
                                      <p:cBhvr>
                                        <p:cTn id="96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-0.0007 0.00046 -0.00122 0.00046 -0.00156 0.00093 C -0.00278 0.00185 -0.00382 0.00301 -0.00365 0.0037 C -0.00347 0.00394 -0.00243 0.00394 -0.00104 0.00301 C 1.11111000000003E-006 0.00278 0.00069 0.00208 0.00087 0.00162 C 0.00139 0.00139 0.00156 0.00093 0.00174 -7.40741E-007 C 0.00278 -0.00139 0.00382 -0.00278 0.00312 -0.00347 C 0.00278 -0.00393 0.00174 -0.00278 0.00052 -0.00139 C 1.11111000000003E-006 -0.00069 -0.00035 -7.40741000000017E-007 -0.0007 0.00116 C -0.00087 0.00116 -0.00104 0.00185 -0.00139 0.00208 C -0.00174 0.0044 -0.00174 0.00602 -0.00122 0.00648 C -0.0007 0.00695 1.11111000000003E-006 0.00509 0.00052 0.00324 C 0.00087 0.00232 0.00139 0.00139 0.00087 0.00046 C 0.00069 0.00023 0.00104 -0.00023 0.00087 -0.00116 C 0.00087 -0.00347 0.00017 -0.00463 -0.00017 -0.00463 C -0.0007 -0.00393 -0.00104 -0.00278 -0.0007 -0.00023 C -0.00087 0.00116 -0.0007 0.00116 -0.0007 0.00232 C -0.00052 0.00232 -0.00017 0.00324 0.00052 0.00301 C 0.00069 0.00486 0.00208 0.00625 0.00226 0.00556 C 0.0026 0.00463 0.0026 0.00324 0.00156 0.00162 C 0.00139 0.00093 0.00087 0.00046 0.00069 -0.00023 C 0.00052 -0.00069 -0.00017 -0.00069 -0.00052 -0.00116 C -0.00174 -0.00208 -0.00313 -0.00255 -0.00347 -0.00139 C -0.00347 -0.00093 -0.00278 0.00046 -0.00156 0.00139 C -0.00087 0.00208 -0.00017 0.00232 1.11111E-006 0.00208 C 0.00069 0.00208 0.00087 0.00232 0.00156 0.00232 C 0.0026 0.00185 0.00399 0.00185 0.00417 0.00093 C 0.00417 0.0007 0.0033 -0.00023 0.00174 -7.40741E-007 C 0.00121 -0.00023 0.00017 -7.40741E-007 1.11111E-006 -7.40741E-007 Z">
                                      <p:cBhvr>
                                        <p:cTn id="98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100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C 0.00018 -0.00069 0.00052 -0.00116 0.0007 -0.00185 C 0.00122 -0.0037 0.00139 -0.00555 0.00104 -0.00579 C 0.00052 -0.00602 -0.00034 -0.00486 -0.00087 -0.00301 C -0.00121 -0.00185 -0.00139 -0.00092 -0.00139 -0.00023 C -0.00156 0.00023 -0.00156 0.00093 -0.00156 0.00162 C -0.00156 0.00371 -0.00121 0.00556 -0.00069 0.00556 C -0.00017 0.00556 0.00018 0.00371 0.00018 0.00162 C 0.00018 0.00046 0.00018 -0.00046 -2.22222E-006 -0.00116 C -0.00017 -0.00162 -0.00034 -0.00231 -0.00052 -0.00278 C -0.00104 -0.00486 -0.00191 -0.00602 -0.00243 -0.00579 C -0.00278 -0.00555 -0.0026 -0.0037 -0.00208 -0.00162 C -0.00173 -0.00092 -0.00139 -1.85185E-006 -0.00104 0.00046 C -0.00087 0.00093 -0.00052 0.00139 -0.00017 0.00185 C 0.00087 0.00324 0.00209 0.00371 0.00243 0.00324 C 0.00261 0.00255 0.00209 0.00116 0.00087 -0.00023 C 0.00035 -0.00092 -2.22221999999995E-006 -0.00116 -0.00052 -0.00162 C -0.00087 -0.00185 -0.00139 -0.00208 -0.00173 -0.00208 C -0.00312 -0.00278 -0.00434 -0.00254 -0.00451 -0.00185 C -0.00451 -0.00116 -0.00364 -1.85185E-006 -0.00225 0.00046 C -0.00156 0.00046 -0.00104 0.0007 -0.00052 0.0007 C -0.00017 0.0007 0.00035 0.00046 0.00087 0.00046 C 0.00226 -1.85185E-006 0.0033 -0.00116 0.00313 -0.00185 C 0.00295 -0.00254 0.00174 -0.00278 0.00035 -0.00231 C -0.00017 -0.00208 -0.00087 -0.00162 -0.00121 -0.00139 C -0.00156 -0.00092 -0.00191 -0.00069 -0.00225 -0.00023 C -0.0033 0.00116 -0.00399 0.00255 -0.00364 0.00324 C -0.00347 0.00371 -0.00225 0.00324 -0.00121 0.00185 C -0.00069 0.00116 -0.00017 0.00046 -2.22222E-006 -1.85185E-006 Z">
                                      <p:cBhvr>
                                        <p:cTn id="102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0017 -2.22222000000001E-006 0.00069 -2.22222000000001E-006 0.00121 -0.00023 C 0.00243 -0.00116 0.00364 -0.00208 0.00347 -0.00278 C 0.00347 -0.00324 0.00226 -0.00324 0.00087 -0.00254 C 1.94444000000001E-006 -0.00231 -0.00087 -0.00208 -0.00122 -0.00162 C -0.00156 -0.00139 -0.00191 -0.00092 -0.00226 -0.00046 C -0.00347 0.00093 -0.00452 0.00232 -0.00399 0.00301 C -0.00365 0.00347 -0.00261 0.00278 -0.00122 0.00139 C -0.0007 0.0007 -0.00018 0.00023 0.00035 -0.00069 C 0.00035 -0.00092 0.00069 -0.00162 0.00087 -0.00185 C 0.00173 -0.00393 0.00191 -0.00555 0.00156 -0.00625 C 0.00104 -0.00625 1.94444000000001E-006 -0.00486 -0.0007 -0.00324 C -0.00104 -0.00231 -0.00156 -0.00139 -0.00122 -0.00069 C -0.00139 -0.00023 -0.00156 0.00047 -0.00156 0.00116 C -0.00174 0.00324 -0.00104 0.00463 -0.00087 0.00463 C -0.00018 0.0044 0.00017 0.00324 0.00017 0.0007 C 0.00035 -0.00046 0.00035 -0.00069 0.00035 -0.00162 C 1.94444000000001E-006 -0.00208 1.94444000000001E-006 -0.00278 -0.00052 -0.00301 C -0.00087 -0.00486 -0.00174 -0.00625 -0.00226 -0.00578 C -0.00278 -0.00509 -0.00278 -0.00347 -0.00209 -0.00185 C -0.00174 -0.00092 -0.00139 -0.00046 -0.00122 0.00023 C -0.00104 0.0007 -0.00035 0.0007 -0.00018 0.00139 C 0.00087 0.00255 0.00226 0.00301 0.00278 0.00209 C 0.00295 0.00162 0.00226 0.00023 0.00121 -0.00092 C 0.00052 -0.00162 1.94444000000001E-006 -0.00185 -0.00035 -0.00208 C -0.00087 -0.00208 -0.00104 -0.00231 -0.00174 -0.00231 C -0.00295 -0.00254 -0.00434 -0.00231 -0.00469 -0.00162 C -0.00469 -0.00092 -0.00365 -0.00023 -0.00226 -2.22222E-006 C -0.00156 0.00023 -0.0007 0.00023 -0.00052 0.00023 Z">
                                      <p:cBhvr>
                                        <p:cTn id="104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162 C -0.00104 -0.00208 -0.00139 -0.00255 -0.00191 -0.00278 C -0.0033 -0.00324 -0.00468 -0.00347 -0.00486 -0.00278 C -0.00503 -0.00255 -0.00416 -0.00139 -0.00277 -0.00069 C -0.00191 -0.00023 -0.00121 0.00046 -0.00069 0.00023 C -0.00034 0.00046 0.00018 0.00046 0.0007 0.00023 C 0.00226 0.00023 0.00365 0.00023 0.00365 -0.00093 C 0.00365 -0.00162 0.00243 -0.00185 0.0007 -0.00208 C -3.05556E-006 -0.00185 -0.00052 -0.00208 -0.00139 -0.00162 C -0.00156 -0.00162 -0.00208 -0.00139 -0.00243 -0.00139 C -0.00399 -0.00046 -0.00503 0.00069 -0.00503 0.00139 C -0.00468 0.00185 -0.00312 0.00185 -0.00191 0.00116 C -0.00121 0.00069 -0.00034 0.00046 -0.00017 -0.00046 C 0.00018 -0.00069 0.00052 -0.00093 0.00087 -0.00162 C 0.00209 -0.00301 0.00226 -0.00463 0.00209 -0.00486 C 0.00139 -0.00509 0.00052 -0.00463 -0.00069 -0.00255 C -0.00139 -0.00185 -0.00139 -0.00162 -0.00191 -0.00093 C -0.00191 -0.00046 -0.00225 0.00023 -0.00191 0.00069 C -0.0026 0.00255 -0.0026 0.0044 -0.00191 0.0044 C -0.00121 0.0044 -0.00034 0.00301 -0.00017 0.00116 C -3.05556E-006 0.00023 -3.05556E-006 -0.00046 0.00018 -0.00116 C 0.00035 -0.00162 -0.00017 -0.00232 -3.05556E-006 -0.00278 C -0.00034 -0.00463 -0.00121 -0.00625 -0.00191 -0.00602 C -0.00225 -0.00579 -0.00243 -0.00417 -0.00225 -0.00232 C -0.00208 -0.00116 -0.00173 -0.00046 -0.00156 3.7037E-007 C -0.00121 0.00046 -0.00121 0.00069 -0.00069 0.00139 C 0.00018 0.00255 0.00139 0.00347 0.00191 0.00324 C 0.00226 0.00278 0.00191 0.00139 0.00087 3.7037E-007 C 0.00052 -0.00069 -0.00017 -0.00162 -0.00034 -0.00162 Z">
                                      <p:cBhvr>
                                        <p:cTn id="106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C 0.00035 -0.00093 0.0007 -0.00139 0.00104 -0.00208 C 0.00139 -0.00417 0.00156 -0.00602 0.00104 -0.00602 C 0.00087 -0.00625 -0.00017 -0.00533 -0.00052 -0.00301 C -0.00104 -0.00208 -0.00139 -0.00139 -0.00139 -0.00046 C -0.00139 1.11110999999998E-006 -0.00156 0.00046 -0.00139 0.00116 C -0.00121 0.00347 -0.00121 0.00509 -0.00052 0.00509 C -2.22221999999995E-006 0.00532 0.00035 0.0037 0.00035 0.00139 C 0.00018 0.00046 0.00035 -0.00023 -0.00017 -0.00162 C 0.00018 -0.00162 -0.00017 -0.00255 -2.22222E-006 -0.00255 C -0.00087 -0.00463 -0.00173 -0.00625 -0.00225 -0.00648 C -0.00243 -0.00602 -0.0026 -0.00394 -0.00208 -0.00208 C -0.00156 -0.00116 -0.00139 1.11111E-006 -0.00087 0.00023 C -0.00069 0.00069 -0.00052 0.00116 -2.22222E-006 0.00139 C 0.00104 0.00324 0.00226 0.0037 0.00261 0.00324 C 0.00261 0.00231 0.00243 0.00139 0.0007 -0.00046 C 0.00018 -0.00139 -0.00017 -0.00162 -0.00034 -0.00208 C -0.00087 -0.00208 -0.00121 -0.00278 -0.00173 -0.00185 C -0.0033 -0.00301 -0.00451 -0.00301 -0.00451 -0.00208 C -0.00451 -0.00116 -0.0033 -0.00023 -0.00191 0.00023 C -0.00121 0.00046 -0.00069 0.00023 -0.00052 0.00069 C -2.22221999999995E-006 0.00092 0.00052 1.11110999999998E-006 0.00104 0.00046 C 0.00226 1.11110999999998E-006 0.00347 -0.00139 0.0033 -0.00232 C 0.00313 -0.00232 0.00191 -0.00278 0.00052 -0.00278 C -0.00034 -0.00232 -0.00087 -0.00162 -0.00139 -0.00139 C -0.00139 -0.00116 -0.00156 -0.00116 -0.00225 -0.00046 C -0.00312 0.00046 -0.00364 0.00231 -0.00347 0.00301 C -0.00312 0.00347 -0.00243 0.00278 -0.00104 0.00139 C -0.00069 0.00092 0.00018 1.11111E-006 -2.22222E-006 1.11111E-006 Z">
                                      <p:cBhvr>
                                        <p:cTn id="108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C -0.00052 0.00046 -0.00104 0.00069 -0.00139 0.00069 C -0.0026 0.00231 -0.00347 0.00347 -0.0033 0.00417 C -0.00312 0.0044 -0.00208 0.00393 -0.00052 0.00347 C 0.00017 0.00255 0.00087 0.00185 0.00104 0.00162 C 0.00156 0.00116 0.00174 0.00069 0.00174 7.40741E-007 C 0.00295 -0.00162 0.00382 -0.00324 0.00295 -0.00347 C 0.00261 -0.00417 0.00174 -0.00301 0.00052 -0.00139 C 0.00017 -0.00046 -0.00017 7.40741000000017E-007 -0.00035 0.00116 C -0.00069 0.00116 -0.00052 0.00231 -0.00087 0.00255 C -0.00139 0.00463 -0.00121 0.00625 -0.00052 0.00694 C -0.00035 0.00671 0.00052 0.00509 0.0007 0.00324 C 0.00122 0.00231 0.00156 0.00116 0.00104 0.00046 C 0.00087 7.40741000000017E-007 0.00122 -0.00046 0.00087 -0.00116 C 0.0007 -0.00347 -8.33333000000022E-007 -0.0044 -0.00035 -0.00463 C -0.00087 -0.00394 -0.00104 -0.00255 -0.00052 7.40741E-007 C -0.00052 0.00116 -0.00035 0.00116 -0.00035 0.00208 C -0.00017 0.00231 0.00035 0.00347 0.00052 0.00301 C 0.00139 0.00509 0.00261 0.00602 0.00261 0.00509 C 0.00313 0.00463 0.00295 0.00301 0.00191 0.00139 C 0.00156 0.00093 0.00104 0.00046 0.00087 -0.00023 C 0.0007 -0.0007 -0.00017 -0.00046 -0.00035 -0.00116 C -0.00174 -0.00185 -0.00312 -0.00208 -0.00347 -0.0007 C -0.00347 -0.00046 -0.0026 0.00069 -0.00139 0.00162 C -0.00052 0.00231 -8.33333000000022E-007 0.00231 0.00035 0.00231 C 0.00087 0.00185 0.00122 0.00231 0.00191 0.00208 C 0.00295 0.00185 0.00434 0.00116 0.00451 0.00046 C 0.00434 7.40741000000017E-007 0.0033 -0.00046 0.00191 -0.00023 C 0.00122 -0.00023 0.00035 7.40741E-007 -8.33333E-007 7.40741E-007 Z">
                                      <p:cBhvr>
                                        <p:cTn id="110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7 0.00023 0.00122 0.00046 0.00157 0.00092 C 0.0033 0.00069 0.00469 0.00023 0.00469 -0.00047 C 0.00452 -0.0007 0.00365 -0.00163 0.00191 -0.00139 C 0.00122 -0.00186 0.00035 -0.00209 -0.00017 -0.00186 C -0.00052 -0.00163 -0.00086 -0.00139 -0.00139 -0.00116 C -0.00277 -0.00047 -0.00416 0.00023 -0.00399 0.00115 C -0.00382 0.00162 -0.0026 0.00162 -0.00086 0.00115 C -0.00034 0.00046 0.00018 0.00046 0.00104 -0.00024 C 0.00104 4.81481E-006 0.00157 -0.00093 0.00174 -0.0007 C 0.00313 -0.00232 0.004 -0.00394 0.00382 -0.00463 C 0.00348 -0.00463 0.00191 -0.0044 0.00087 -0.00325 C 0.00018 -0.00209 -0.00052 -0.00163 -0.00034 -0.00093 C -0.00069 -0.00047 -0.00104 -0.00024 -0.00121 0.00069 C -0.00208 0.00231 -0.00191 0.00416 -0.00156 0.00439 C -0.00086 0.00416 -0.00017 0.0037 0.00035 0.00092 C 0.00087 4.81481000000003E-006 0.00104 -0.00024 0.00122 -0.00093 C 0.00122 -0.00139 0.00139 -0.00232 0.00087 -0.00255 C 0.00122 -0.00487 0.00087 -0.00649 -3.05556E-006 -0.00625 C -0.00052 -0.00602 -0.00104 -0.00417 -0.00069 -0.00232 C -0.00069 -0.00139 -0.00052 -0.0007 -0.00052 -0.00024 C -0.00086 0.00046 -3.05556E-006 0.00092 -3.05556E-006 0.00162 C 0.0007 0.003 0.00191 0.00416 0.00243 0.0037 C 0.00261 0.0037 0.00261 0.00185 0.00191 4.81481E-006 C 0.00157 -0.00093 0.00087 -0.00139 0.0007 -0.00186 C 0.00035 -0.00209 0.00018 -0.00209 -0.00034 -0.00278 C -0.00139 -0.00371 -0.00277 -0.00394 -0.00312 -0.00348 C -0.00364 -0.00278 -0.00277 -0.00186 -0.00139 -0.0007 C -0.00104 -0.00047 -0.00017 0.00046 -3.05556E-006 4.81481E-006 Z">
                                      <p:cBhvr>
                                        <p:cTn id="112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114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116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118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C -0.00034 0.0007 -0.00052 0.00139 -0.00069 0.00208 C -0.00104 0.00394 -0.00121 0.00509 -0.00069 0.00556 C -0.00069 0.00602 0.00035 0.00533 0.00087 0.00324 C 0.00122 0.00208 0.00174 0.00116 0.00122 0.00023 C 0.00174 -1.11111E-006 0.00157 -0.00092 0.00139 -0.00139 C 0.00157 -0.00393 0.00139 -0.00555 0.00052 -0.00532 C 0.00018 -0.00555 -0.00017 -0.00393 -0.00017 -0.00162 C 0.00018 -0.00069 -0.00017 -0.00023 0.00018 0.00139 C -3.61111000000001E-006 0.00139 0.00035 0.00232 0.00035 0.00208 C 0.00105 0.00486 0.00191 0.00579 0.00243 0.00602 C 0.00296 0.00533 0.00261 0.00347 0.00226 0.00185 C 0.00191 0.00093 0.00174 -1.11111000000003E-006 0.00087 -0.00069 C 0.0007 -0.00092 0.0007 -0.00162 0.00018 -0.00185 C -0.00086 -0.0037 -0.00208 -0.0037 -0.00225 -0.00324 C -0.0026 -0.00231 -0.00208 -0.00116 -0.00052 0.00023 C -0.00034 0.00093 0.00018 0.00139 0.0007 0.00208 C 0.00105 0.00208 0.00157 0.00232 0.00174 0.00162 C 0.00313 0.00255 0.00452 0.00255 0.00452 0.00185 C 0.00469 0.00139 0.00365 -1.11111E-006 0.00226 -0.00023 C 0.00157 -0.00046 0.00087 -0.00069 0.00018 -0.00092 C 0.00018 -0.00116 -0.00034 -0.00046 -0.00069 -0.00069 C -0.00208 -1.11111000000003E-006 -0.00329 0.00116 -0.00312 0.00185 C -0.00312 0.00232 -0.00173 0.00255 -0.00052 0.00255 C 0.00052 0.00232 0.00105 0.00185 0.00139 0.00162 C 0.00174 0.00116 0.00191 0.00093 0.00243 0.00023 C 0.0033 -0.00116 0.004 -0.00278 0.00365 -0.00324 C 0.00348 -0.00347 0.00226 -0.00324 0.00122 -0.00185 C 0.00105 -0.00116 0.00018 -0.00069 -3.61111E-006 -1.11111E-006 Z">
                                      <p:cBhvr>
                                        <p:cTn id="120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C 0.00052 0.00069 0.00069 0.00139 0.00087 0.00208 C 0.00225 0.00324 0.00347 0.00416 0.00382 0.00347 C 0.00382 0.00347 0.00364 0.00162 0.00225 0.00046 C 0.00191 -0.00047 0.00139 -0.00116 0.00087 -0.00162 C 0.00034 -0.00186 2.50000000000001E-006 -0.00209 -0.00035 -0.00232 C -0.00191 -0.00278 -0.0033 -0.00348 -0.00347 -0.00278 C -0.00365 -0.00209 -0.00278 -0.00093 -0.00122 3.33333E-006 C -0.00035 3.33333E-006 -0.00018 0.00046 0.00104 0.00046 C 0.00087 0.00069 0.00173 0.00069 0.00173 0.00092 C 0.00347 0.00069 0.00503 0.00023 0.00521 -0.00047 C 0.00486 -0.0007 0.00364 -0.00186 0.00225 -0.00186 C 0.00121 -0.00162 0.00034 -0.00186 0.00017 -0.00116 C -0.00018 -0.00116 -0.00052 -0.00116 -0.00104 -0.0007 C -0.00261 3.33332999999999E-006 -0.00347 0.00139 -0.0033 0.00208 C -0.00261 0.00231 -0.00191 0.00254 -0.00018 0.00092 C 0.00069 0.00069 0.00104 0.00046 0.00139 0.00023 C 0.00173 3.33333000000001E-006 0.00225 -0.00047 0.00191 -0.00139 C 0.0033 -0.00278 0.00382 -0.0044 0.00295 -0.00486 C 0.0026 -0.0051 0.00121 -0.00417 0.00052 -0.00255 C 0.00017 -0.00162 2.50000000000001E-006 -0.00093 -0.00035 -0.0007 C -0.00087 -0.00047 -0.00035 0.00046 -0.0007 0.00115 C -0.00087 0.00277 -0.00052 0.00463 0.00017 0.00486 C 0.00034 0.00486 0.00121 0.0037 0.00156 0.00162 C 0.00173 0.00046 0.00139 -0.00047 0.00139 -0.00093 C 0.00139 -0.00116 0.00121 -0.00162 0.00104 -0.00232 C 0.00069 -0.00417 -0.00018 -0.00533 -0.0007 -0.00533 C -0.00139 -0.00533 -0.00122 -0.00394 -0.0007 -0.00186 C -0.00052 -0.00139 -0.00018 0.00023 2.5E-006 3.33333E-006 Z">
                                      <p:cBhvr>
                                        <p:cTn id="122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C 0.0007 0.00023 0.00122 0.00046 0.00174 0.00046 C 0.00313 0.00023 0.004 0.00023 0.00417 -0.00069 C 0.00452 -0.00069 0.00382 -0.00185 0.00209 -0.00185 C 0.00122 -0.00208 0.00035 -0.00255 -0.00017 -0.00162 C -0.00052 -0.00208 -0.00104 -0.00162 -0.00139 -0.00139 C -0.0033 -0.00069 -0.00416 -0.00023 -0.00399 0.00093 C -0.00382 0.00139 -0.00278 0.00139 -0.00104 0.0007 C -0.00052 -1.11111000000003E-006 -1.94444000000001E-006 0.00046 0.00104 -0.00046 C 0.00104 -0.00023 0.00156 -0.00092 0.00139 -0.00092 C 0.0033 -0.00255 0.00365 -0.00393 0.00382 -0.00486 C 0.00313 -0.00486 0.00174 -0.00417 0.0007 -0.00324 C 0.00018 -0.00255 -0.00052 -0.00208 -0.00069 -0.00092 C -0.00087 -0.00046 -0.00139 -0.00023 -0.00139 0.00046 C -0.00243 0.00232 -0.00208 0.0037 -0.00173 0.00394 C -0.00087 0.00417 -0.00017 0.00301 0.00035 0.0007 C 0.00087 0.00023 0.00104 -0.00046 0.00139 -0.00139 C 0.00122 -0.00185 0.00122 -0.00255 0.0007 -0.00255 C 0.00104 -0.00463 0.00052 -0.00648 0.00018 -0.00625 C -0.00035 -0.00625 -0.00104 -0.00463 -0.00069 -0.00278 C -0.00069 -0.00185 -0.00069 -0.00092 -0.00069 0.00023 C -0.00087 0.00023 -0.00017 0.0007 -0.00035 0.00116 C 0.0007 0.00278 0.00174 0.00394 0.00226 0.00347 C 0.00261 0.00347 0.00243 0.00162 0.00209 -1.11111E-006 C 0.00156 -0.00116 0.00104 -0.00185 0.00087 -0.00208 C 0.00035 -0.00255 0.00018 -0.00255 -0.00052 -0.00301 C -0.00173 -0.0037 -0.00312 -0.00417 -0.0033 -0.0037 C -0.00347 -0.00347 -0.00295 -0.00185 -0.00156 -0.00092 C -0.00104 -0.00092 -0.00052 -1.11111E-006 -1.94444E-006 -1.11111E-006 Z">
                                      <p:cBhvr>
                                        <p:cTn id="124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40741E-007 C -0.00069 -0.00046 -0.00104 -0.00093 -0.00104 -0.00139 C -0.0026 -0.00208 -0.00399 -0.00278 -0.00417 -0.00208 C -0.00417 -0.00185 -0.00382 7.40741000000017E-007 -0.00226 0.00046 C -0.00156 0.00139 -0.00087 0.00185 -0.00035 0.00185 C 0.00017 0.00185 0.00052 0.00185 0.00122 0.00208 C 0.0026 0.00185 0.00399 0.00208 0.00399 0.00116 C 0.00399 0.00046 0.00278 -0.00023 0.00104 -0.00046 C 0.00035 -0.00023 5.55111512312578E-017 -0.00046 -0.00104 7.40741E-007 C -0.00104 -0.00023 -0.00156 0.00023 -0.00174 -0.00046 C -0.00347 0.00093 -0.00451 0.00185 -0.00486 0.00255 C -0.00451 0.00278 -0.00295 0.00324 -0.00174 0.00208 C -0.00035 0.00208 0.00017 0.00185 0.00017 0.00116 C 0.00052 0.00093 0.00104 0.00093 0.00122 0.00023 C 0.00278 -0.00116 0.00295 -0.00278 0.0026 -0.00324 C 0.00191 -0.00324 0.00139 -0.00278 -0.00017 -0.00093 C -0.00087 -0.00023 -0.00104 7.40741000000017E-007 -0.00139 0.00069 C -0.00156 0.00093 -0.00191 0.00139 -0.00156 0.00231 C -0.00243 0.00393 -0.0026 0.00555 -0.00174 0.00579 C -0.00122 0.00579 -0.00017 0.0044 5.55112E-017 0.00255 C 0.00035 0.00162 0.00035 0.00093 0.00069 0.00046 C 0.00087 -0.00023 0.00017 -0.0007 0.00069 -0.00139 C 0.00017 -0.00301 -0.00052 -0.00486 -0.00122 -0.0044 C -0.00139 -0.00486 -0.00174 -0.00301 -0.00174 -0.00093 C -0.00174 7.40741000000017E-007 -0.00104 0.00116 -0.00104 0.00162 C -0.00087 0.00185 -0.00035 0.00208 -0.00052 0.00278 C 0.00052 0.00417 0.00156 0.00509 0.00208 0.00486 C 0.0026 0.0044 0.00208 0.00324 0.00122 0.00162 C 0.00087 0.00069 0.00017 -0.00023 5.55112E-017 7.40741E-007 Z">
                                      <p:cBhvr>
                                        <p:cTn id="126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-0.0007 0.00046 -0.00122 0.00046 -0.00156 0.00093 C -0.00278 0.00185 -0.00382 0.00301 -0.00365 0.0037 C -0.00347 0.00394 -0.00243 0.00394 -0.00104 0.00301 C 1.11111000000003E-006 0.00278 0.00069 0.00208 0.00087 0.00162 C 0.00139 0.00139 0.00156 0.00093 0.00174 -7.40741E-007 C 0.00278 -0.00139 0.00382 -0.00278 0.00312 -0.00347 C 0.00278 -0.00393 0.00174 -0.00278 0.00052 -0.00139 C 1.11111000000003E-006 -0.00069 -0.00035 -7.40741000000017E-007 -0.0007 0.00116 C -0.00087 0.00116 -0.00104 0.00185 -0.00139 0.00208 C -0.00174 0.0044 -0.00174 0.00602 -0.00122 0.00648 C -0.0007 0.00695 1.11111000000003E-006 0.00509 0.00052 0.00324 C 0.00087 0.00232 0.00139 0.00139 0.00087 0.00046 C 0.00069 0.00023 0.00104 -0.00023 0.00087 -0.00116 C 0.00087 -0.00347 0.00017 -0.00463 -0.00017 -0.00463 C -0.0007 -0.00393 -0.00104 -0.00278 -0.0007 -0.00023 C -0.00087 0.00116 -0.0007 0.00116 -0.0007 0.00232 C -0.00052 0.00232 -0.00017 0.00324 0.00052 0.00301 C 0.00069 0.00486 0.00208 0.00625 0.00226 0.00556 C 0.0026 0.00463 0.0026 0.00324 0.00156 0.00162 C 0.00139 0.00093 0.00087 0.00046 0.00069 -0.00023 C 0.00052 -0.00069 -0.00017 -0.00069 -0.00052 -0.00116 C -0.00174 -0.00208 -0.00313 -0.00255 -0.00347 -0.00139 C -0.00347 -0.00093 -0.00278 0.00046 -0.00156 0.00139 C -0.00087 0.00208 -0.00017 0.00232 1.11111E-006 0.00208 C 0.00069 0.00208 0.00087 0.00232 0.00156 0.00232 C 0.0026 0.00185 0.00399 0.00185 0.00417 0.00093 C 0.00417 0.0007 0.0033 -0.00023 0.00174 -7.40741E-007 C 0.00121 -0.00023 0.00017 -7.40741E-007 1.11111E-006 -7.40741E-007 Z">
                                      <p:cBhvr>
                                        <p:cTn id="128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C 0.00018 -0.00069 0.00052 -0.00116 0.0007 -0.00185 C 0.00122 -0.0037 0.00139 -0.00555 0.00104 -0.00579 C 0.00052 -0.00602 -0.00034 -0.00486 -0.00087 -0.00301 C -0.00121 -0.00185 -0.00139 -0.00092 -0.00139 -0.00023 C -0.00156 0.00023 -0.00156 0.00093 -0.00156 0.00162 C -0.00156 0.00371 -0.00121 0.00556 -0.00069 0.00556 C -0.00017 0.00556 0.00018 0.00371 0.00018 0.00162 C 0.00018 0.00046 0.00018 -0.00046 -2.22222E-006 -0.00116 C -0.00017 -0.00162 -0.00034 -0.00231 -0.00052 -0.00278 C -0.00104 -0.00486 -0.00191 -0.00602 -0.00243 -0.00579 C -0.00278 -0.00555 -0.0026 -0.0037 -0.00208 -0.00162 C -0.00173 -0.00092 -0.00139 -1.85185E-006 -0.00104 0.00046 C -0.00087 0.00093 -0.00052 0.00139 -0.00017 0.00185 C 0.00087 0.00324 0.00209 0.00371 0.00243 0.00324 C 0.00261 0.00255 0.00209 0.00116 0.00087 -0.00023 C 0.00035 -0.00092 -2.22221999999995E-006 -0.00116 -0.00052 -0.00162 C -0.00087 -0.00185 -0.00139 -0.00208 -0.00173 -0.00208 C -0.00312 -0.00278 -0.00434 -0.00254 -0.00451 -0.00185 C -0.00451 -0.00116 -0.00364 -1.85185E-006 -0.00225 0.00046 C -0.00156 0.00046 -0.00104 0.0007 -0.00052 0.0007 C -0.00017 0.0007 0.00035 0.00046 0.00087 0.00046 C 0.00226 -1.85185E-006 0.0033 -0.00116 0.00313 -0.00185 C 0.00295 -0.00254 0.00174 -0.00278 0.00035 -0.00231 C -0.00017 -0.00208 -0.00087 -0.00162 -0.00121 -0.00139 C -0.00156 -0.00092 -0.00191 -0.00069 -0.00225 -0.00023 C -0.0033 0.00116 -0.00399 0.00255 -0.00364 0.00324 C -0.00347 0.00371 -0.00225 0.00324 -0.00121 0.00185 C -0.00069 0.00116 -0.00017 0.00046 -2.22222E-006 -1.85185E-006 Z">
                                      <p:cBhvr>
                                        <p:cTn id="132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0017 -2.22222000000001E-006 0.00069 -2.22222000000001E-006 0.00121 -0.00023 C 0.00243 -0.00116 0.00364 -0.00208 0.00347 -0.00278 C 0.00347 -0.00324 0.00226 -0.00324 0.00087 -0.00254 C 1.94444000000001E-006 -0.00231 -0.00087 -0.00208 -0.00122 -0.00162 C -0.00156 -0.00139 -0.00191 -0.00092 -0.00226 -0.00046 C -0.00347 0.00093 -0.00452 0.00232 -0.00399 0.00301 C -0.00365 0.00347 -0.00261 0.00278 -0.00122 0.00139 C -0.0007 0.0007 -0.00018 0.00023 0.00035 -0.00069 C 0.00035 -0.00092 0.00069 -0.00162 0.00087 -0.00185 C 0.00173 -0.00393 0.00191 -0.00555 0.00156 -0.00625 C 0.00104 -0.00625 1.94444000000001E-006 -0.00486 -0.0007 -0.00324 C -0.00104 -0.00231 -0.00156 -0.00139 -0.00122 -0.00069 C -0.00139 -0.00023 -0.00156 0.00047 -0.00156 0.00116 C -0.00174 0.00324 -0.00104 0.00463 -0.00087 0.00463 C -0.00018 0.0044 0.00017 0.00324 0.00017 0.0007 C 0.00035 -0.00046 0.00035 -0.00069 0.00035 -0.00162 C 1.94444000000001E-006 -0.00208 1.94444000000001E-006 -0.00278 -0.00052 -0.00301 C -0.00087 -0.00486 -0.00174 -0.00625 -0.00226 -0.00578 C -0.00278 -0.00509 -0.00278 -0.00347 -0.00209 -0.00185 C -0.00174 -0.00092 -0.00139 -0.00046 -0.00122 0.00023 C -0.00104 0.0007 -0.00035 0.0007 -0.00018 0.00139 C 0.00087 0.00255 0.00226 0.00301 0.00278 0.00209 C 0.00295 0.00162 0.00226 0.00023 0.00121 -0.00092 C 0.00052 -0.00162 1.94444000000001E-006 -0.00185 -0.00035 -0.00208 C -0.00087 -0.00208 -0.00104 -0.00231 -0.00174 -0.00231 C -0.00295 -0.00254 -0.00434 -0.00231 -0.00469 -0.00162 C -0.00469 -0.00092 -0.00365 -0.00023 -0.00226 -2.22222E-006 C -0.00156 0.00023 -0.0007 0.00023 -0.00052 0.00023 Z">
                                      <p:cBhvr>
                                        <p:cTn id="134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162 C -0.00104 -0.00208 -0.00139 -0.00255 -0.00191 -0.00278 C -0.0033 -0.00324 -0.00468 -0.00347 -0.00486 -0.00278 C -0.00503 -0.00255 -0.00416 -0.00139 -0.00277 -0.00069 C -0.00191 -0.00023 -0.00121 0.00046 -0.00069 0.00023 C -0.00034 0.00046 0.00018 0.00046 0.0007 0.00023 C 0.00226 0.00023 0.00365 0.00023 0.00365 -0.00093 C 0.00365 -0.00162 0.00243 -0.00185 0.0007 -0.00208 C -3.05556E-006 -0.00185 -0.00052 -0.00208 -0.00139 -0.00162 C -0.00156 -0.00162 -0.00208 -0.00139 -0.00243 -0.00139 C -0.00399 -0.00046 -0.00503 0.00069 -0.00503 0.00139 C -0.00468 0.00185 -0.00312 0.00185 -0.00191 0.00116 C -0.00121 0.00069 -0.00034 0.00046 -0.00017 -0.00046 C 0.00018 -0.00069 0.00052 -0.00093 0.00087 -0.00162 C 0.00209 -0.00301 0.00226 -0.00463 0.00209 -0.00486 C 0.00139 -0.00509 0.00052 -0.00463 -0.00069 -0.00255 C -0.00139 -0.00185 -0.00139 -0.00162 -0.00191 -0.00093 C -0.00191 -0.00046 -0.00225 0.00023 -0.00191 0.00069 C -0.0026 0.00255 -0.0026 0.0044 -0.00191 0.0044 C -0.00121 0.0044 -0.00034 0.00301 -0.00017 0.00116 C -3.05556E-006 0.00023 -3.05556E-006 -0.00046 0.00018 -0.00116 C 0.00035 -0.00162 -0.00017 -0.00232 -3.05556E-006 -0.00278 C -0.00034 -0.00463 -0.00121 -0.00625 -0.00191 -0.00602 C -0.00225 -0.00579 -0.00243 -0.00417 -0.00225 -0.00232 C -0.00208 -0.00116 -0.00173 -0.00046 -0.00156 3.7037E-007 C -0.00121 0.00046 -0.00121 0.00069 -0.00069 0.00139 C 0.00018 0.00255 0.00139 0.00347 0.00191 0.00324 C 0.00226 0.00278 0.00191 0.00139 0.00087 3.7037E-007 C 0.00052 -0.00069 -0.00017 -0.00162 -0.00034 -0.00162 Z">
                                      <p:cBhvr>
                                        <p:cTn id="136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C 0.00035 -0.00093 0.0007 -0.00139 0.00104 -0.00208 C 0.00139 -0.00417 0.00156 -0.00602 0.00104 -0.00602 C 0.00087 -0.00625 -0.00017 -0.00533 -0.00052 -0.00301 C -0.00104 -0.00208 -0.00139 -0.00139 -0.00139 -0.00046 C -0.00139 1.11110999999998E-006 -0.00156 0.00046 -0.00139 0.00116 C -0.00121 0.00347 -0.00121 0.00509 -0.00052 0.00509 C -2.22221999999995E-006 0.00532 0.00035 0.0037 0.00035 0.00139 C 0.00018 0.00046 0.00035 -0.00023 -0.00017 -0.00162 C 0.00018 -0.00162 -0.00017 -0.00255 -2.22222E-006 -0.00255 C -0.00087 -0.00463 -0.00173 -0.00625 -0.00225 -0.00648 C -0.00243 -0.00602 -0.0026 -0.00394 -0.00208 -0.00208 C -0.00156 -0.00116 -0.00139 1.11111E-006 -0.00087 0.00023 C -0.00069 0.00069 -0.00052 0.00116 -2.22222E-006 0.00139 C 0.00104 0.00324 0.00226 0.0037 0.00261 0.00324 C 0.00261 0.00231 0.00243 0.00139 0.0007 -0.00046 C 0.00018 -0.00139 -0.00017 -0.00162 -0.00034 -0.00208 C -0.00087 -0.00208 -0.00121 -0.00278 -0.00173 -0.00185 C -0.0033 -0.00301 -0.00451 -0.00301 -0.00451 -0.00208 C -0.00451 -0.00116 -0.0033 -0.00023 -0.00191 0.00023 C -0.00121 0.00046 -0.00069 0.00023 -0.00052 0.00069 C -2.22221999999995E-006 0.00092 0.00052 1.11110999999998E-006 0.00104 0.00046 C 0.00226 1.11110999999998E-006 0.00347 -0.00139 0.0033 -0.00232 C 0.00313 -0.00232 0.00191 -0.00278 0.00052 -0.00278 C -0.00034 -0.00232 -0.00087 -0.00162 -0.00139 -0.00139 C -0.00139 -0.00116 -0.00156 -0.00116 -0.00225 -0.00046 C -0.00312 0.00046 -0.00364 0.00231 -0.00347 0.00301 C -0.00312 0.00347 -0.00243 0.00278 -0.00104 0.00139 C -0.00069 0.00092 0.00018 1.11111E-006 -2.22222E-006 1.11111E-006 Z">
                                      <p:cBhvr>
                                        <p:cTn id="138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C -0.00052 0.00046 -0.00104 0.00069 -0.00139 0.00069 C -0.0026 0.00231 -0.00347 0.00347 -0.0033 0.00417 C -0.00312 0.0044 -0.00208 0.00393 -0.00052 0.00347 C 0.00017 0.00255 0.00087 0.00185 0.00104 0.00162 C 0.00156 0.00116 0.00174 0.00069 0.00174 7.40741E-007 C 0.00295 -0.00162 0.00382 -0.00324 0.00295 -0.00347 C 0.00261 -0.00417 0.00174 -0.00301 0.00052 -0.00139 C 0.00017 -0.00046 -0.00017 7.40741000000017E-007 -0.00035 0.00116 C -0.00069 0.00116 -0.00052 0.00231 -0.00087 0.00255 C -0.00139 0.00463 -0.00121 0.00625 -0.00052 0.00694 C -0.00035 0.00671 0.00052 0.00509 0.0007 0.00324 C 0.00122 0.00231 0.00156 0.00116 0.00104 0.00046 C 0.00087 7.40741000000017E-007 0.00122 -0.00046 0.00087 -0.00116 C 0.0007 -0.00347 -8.33333000000022E-007 -0.0044 -0.00035 -0.00463 C -0.00087 -0.00394 -0.00104 -0.00255 -0.00052 7.40741E-007 C -0.00052 0.00116 -0.00035 0.00116 -0.00035 0.00208 C -0.00017 0.00231 0.00035 0.00347 0.00052 0.00301 C 0.00139 0.00509 0.00261 0.00602 0.00261 0.00509 C 0.00313 0.00463 0.00295 0.00301 0.00191 0.00139 C 0.00156 0.00093 0.00104 0.00046 0.00087 -0.00023 C 0.0007 -0.0007 -0.00017 -0.00046 -0.00035 -0.00116 C -0.00174 -0.00185 -0.00312 -0.00208 -0.00347 -0.0007 C -0.00347 -0.00046 -0.0026 0.00069 -0.00139 0.00162 C -0.00052 0.00231 -8.33333000000022E-007 0.00231 0.00035 0.00231 C 0.00087 0.00185 0.00122 0.00231 0.00191 0.00208 C 0.00295 0.00185 0.00434 0.00116 0.00451 0.00046 C 0.00434 7.40741000000017E-007 0.0033 -0.00046 0.00191 -0.00023 C 0.00122 -0.00023 0.00035 7.40741E-007 -8.33333E-007 7.40741E-007 Z">
                                      <p:cBhvr>
                                        <p:cTn id="140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7 0.00023 0.00122 0.00046 0.00157 0.00092 C 0.0033 0.00069 0.00469 0.00023 0.00469 -0.00047 C 0.00452 -0.0007 0.00365 -0.00163 0.00191 -0.00139 C 0.00122 -0.00186 0.00035 -0.00209 -0.00017 -0.00186 C -0.00052 -0.00163 -0.00086 -0.00139 -0.00139 -0.00116 C -0.00277 -0.00047 -0.00416 0.00023 -0.00399 0.00115 C -0.00382 0.00162 -0.0026 0.00162 -0.00086 0.00115 C -0.00034 0.00046 0.00018 0.00046 0.00104 -0.00024 C 0.00104 4.81481E-006 0.00157 -0.00093 0.00174 -0.0007 C 0.00313 -0.00232 0.004 -0.00394 0.00382 -0.00463 C 0.00348 -0.00463 0.00191 -0.0044 0.00087 -0.00325 C 0.00018 -0.00209 -0.00052 -0.00163 -0.00034 -0.00093 C -0.00069 -0.00047 -0.00104 -0.00024 -0.00121 0.00069 C -0.00208 0.00231 -0.00191 0.00416 -0.00156 0.00439 C -0.00086 0.00416 -0.00017 0.0037 0.00035 0.00092 C 0.00087 4.81481000000003E-006 0.00104 -0.00024 0.00122 -0.00093 C 0.00122 -0.00139 0.00139 -0.00232 0.00087 -0.00255 C 0.00122 -0.00487 0.00087 -0.00649 -3.05556E-006 -0.00625 C -0.00052 -0.00602 -0.00104 -0.00417 -0.00069 -0.00232 C -0.00069 -0.00139 -0.00052 -0.0007 -0.00052 -0.00024 C -0.00086 0.00046 -3.05556E-006 0.00092 -3.05556E-006 0.00162 C 0.0007 0.003 0.00191 0.00416 0.00243 0.0037 C 0.00261 0.0037 0.00261 0.00185 0.00191 4.81481E-006 C 0.00157 -0.00093 0.00087 -0.00139 0.0007 -0.00186 C 0.00035 -0.00209 0.00018 -0.00209 -0.00034 -0.00278 C -0.00139 -0.00371 -0.00277 -0.00394 -0.00312 -0.00348 C -0.00364 -0.00278 -0.00277 -0.00186 -0.00139 -0.0007 C -0.00104 -0.00047 -0.00017 0.00046 -3.05556E-006 4.81481E-006 Z">
                                      <p:cBhvr>
                                        <p:cTn id="142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144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146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148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C -0.00034 0.0007 -0.00052 0.00139 -0.00069 0.00208 C -0.00104 0.00394 -0.00121 0.00509 -0.00069 0.00556 C -0.00069 0.00602 0.00035 0.00533 0.00087 0.00324 C 0.00122 0.00208 0.00174 0.00116 0.00122 0.00023 C 0.00174 -1.11111E-006 0.00157 -0.00092 0.00139 -0.00139 C 0.00157 -0.00393 0.00139 -0.00555 0.00052 -0.00532 C 0.00018 -0.00555 -0.00017 -0.00393 -0.00017 -0.00162 C 0.00018 -0.00069 -0.00017 -0.00023 0.00018 0.00139 C -3.61111000000001E-006 0.00139 0.00035 0.00232 0.00035 0.00208 C 0.00105 0.00486 0.00191 0.00579 0.00243 0.00602 C 0.00296 0.00533 0.00261 0.00347 0.00226 0.00185 C 0.00191 0.00093 0.00174 -1.11111000000003E-006 0.00087 -0.00069 C 0.0007 -0.00092 0.0007 -0.00162 0.00018 -0.00185 C -0.00086 -0.0037 -0.00208 -0.0037 -0.00225 -0.00324 C -0.0026 -0.00231 -0.00208 -0.00116 -0.00052 0.00023 C -0.00034 0.00093 0.00018 0.00139 0.0007 0.00208 C 0.00105 0.00208 0.00157 0.00232 0.00174 0.00162 C 0.00313 0.00255 0.00452 0.00255 0.00452 0.00185 C 0.00469 0.00139 0.00365 -1.11111E-006 0.00226 -0.00023 C 0.00157 -0.00046 0.00087 -0.00069 0.00018 -0.00092 C 0.00018 -0.00116 -0.00034 -0.00046 -0.00069 -0.00069 C -0.00208 -1.11111000000003E-006 -0.00329 0.00116 -0.00312 0.00185 C -0.00312 0.00232 -0.00173 0.00255 -0.00052 0.00255 C 0.00052 0.00232 0.00105 0.00185 0.00139 0.00162 C 0.00174 0.00116 0.00191 0.00093 0.00243 0.00023 C 0.0033 -0.00116 0.004 -0.00278 0.00365 -0.00324 C 0.00348 -0.00347 0.00226 -0.00324 0.00122 -0.00185 C 0.00105 -0.00116 0.00018 -0.00069 -3.61111E-006 -1.11111E-006 Z">
                                      <p:cBhvr>
                                        <p:cTn id="150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C 0.00052 0.00069 0.00069 0.00139 0.00087 0.00208 C 0.00225 0.00324 0.00347 0.00416 0.00382 0.00347 C 0.00382 0.00347 0.00364 0.00162 0.00225 0.00046 C 0.00191 -0.00047 0.00139 -0.00116 0.00087 -0.00162 C 0.00034 -0.00186 2.50000000000001E-006 -0.00209 -0.00035 -0.00232 C -0.00191 -0.00278 -0.0033 -0.00348 -0.00347 -0.00278 C -0.00365 -0.00209 -0.00278 -0.00093 -0.00122 3.33333E-006 C -0.00035 3.33333E-006 -0.00018 0.00046 0.00104 0.00046 C 0.00087 0.00069 0.00173 0.00069 0.00173 0.00092 C 0.00347 0.00069 0.00503 0.00023 0.00521 -0.00047 C 0.00486 -0.0007 0.00364 -0.00186 0.00225 -0.00186 C 0.00121 -0.00162 0.00034 -0.00186 0.00017 -0.00116 C -0.00018 -0.00116 -0.00052 -0.00116 -0.00104 -0.0007 C -0.00261 3.33332999999999E-006 -0.00347 0.00139 -0.0033 0.00208 C -0.00261 0.00231 -0.00191 0.00254 -0.00018 0.00092 C 0.00069 0.00069 0.00104 0.00046 0.00139 0.00023 C 0.00173 3.33333000000001E-006 0.00225 -0.00047 0.00191 -0.00139 C 0.0033 -0.00278 0.00382 -0.0044 0.00295 -0.00486 C 0.0026 -0.0051 0.00121 -0.00417 0.00052 -0.00255 C 0.00017 -0.00162 2.50000000000001E-006 -0.00093 -0.00035 -0.0007 C -0.00087 -0.00047 -0.00035 0.00046 -0.0007 0.00115 C -0.00087 0.00277 -0.00052 0.00463 0.00017 0.00486 C 0.00034 0.00486 0.00121 0.0037 0.00156 0.00162 C 0.00173 0.00046 0.00139 -0.00047 0.00139 -0.00093 C 0.00139 -0.00116 0.00121 -0.00162 0.00104 -0.00232 C 0.00069 -0.00417 -0.00018 -0.00533 -0.0007 -0.00533 C -0.00139 -0.00533 -0.00122 -0.00394 -0.0007 -0.00186 C -0.00052 -0.00139 -0.00018 0.00023 2.5E-006 3.33333E-006 Z">
                                      <p:cBhvr>
                                        <p:cTn id="152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C 0.0007 0.00023 0.00122 0.00046 0.00174 0.00046 C 0.00313 0.00023 0.004 0.00023 0.00417 -0.00069 C 0.00452 -0.00069 0.00382 -0.00185 0.00209 -0.00185 C 0.00122 -0.00208 0.00035 -0.00255 -0.00017 -0.00162 C -0.00052 -0.00208 -0.00104 -0.00162 -0.00139 -0.00139 C -0.0033 -0.00069 -0.00416 -0.00023 -0.00399 0.00093 C -0.00382 0.00139 -0.00278 0.00139 -0.00104 0.0007 C -0.00052 -1.11111000000003E-006 -1.94444000000001E-006 0.00046 0.00104 -0.00046 C 0.00104 -0.00023 0.00156 -0.00092 0.00139 -0.00092 C 0.0033 -0.00255 0.00365 -0.00393 0.00382 -0.00486 C 0.00313 -0.00486 0.00174 -0.00417 0.0007 -0.00324 C 0.00018 -0.00255 -0.00052 -0.00208 -0.00069 -0.00092 C -0.00087 -0.00046 -0.00139 -0.00023 -0.00139 0.00046 C -0.00243 0.00232 -0.00208 0.0037 -0.00173 0.00394 C -0.00087 0.00417 -0.00017 0.00301 0.00035 0.0007 C 0.00087 0.00023 0.00104 -0.00046 0.00139 -0.00139 C 0.00122 -0.00185 0.00122 -0.00255 0.0007 -0.00255 C 0.00104 -0.00463 0.00052 -0.00648 0.00018 -0.00625 C -0.00035 -0.00625 -0.00104 -0.00463 -0.00069 -0.00278 C -0.00069 -0.00185 -0.00069 -0.00092 -0.00069 0.00023 C -0.00087 0.00023 -0.00017 0.0007 -0.00035 0.00116 C 0.0007 0.00278 0.00174 0.00394 0.00226 0.00347 C 0.00261 0.00347 0.00243 0.00162 0.00209 -1.11111E-006 C 0.00156 -0.00116 0.00104 -0.00185 0.00087 -0.00208 C 0.00035 -0.00255 0.00018 -0.00255 -0.00052 -0.00301 C -0.00173 -0.0037 -0.00312 -0.00417 -0.0033 -0.0037 C -0.00347 -0.00347 -0.00295 -0.00185 -0.00156 -0.00092 C -0.00104 -0.00092 -0.00052 -1.11111E-006 -1.94444E-006 -1.11111E-006 Z">
                                      <p:cBhvr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40741E-007 C -0.00069 -0.00046 -0.00104 -0.00093 -0.00104 -0.00139 C -0.0026 -0.00208 -0.00399 -0.00278 -0.00417 -0.00208 C -0.00417 -0.00185 -0.00382 7.40741000000017E-007 -0.00226 0.00046 C -0.00156 0.00139 -0.00087 0.00185 -0.00035 0.00185 C 0.00017 0.00185 0.00052 0.00185 0.00122 0.00208 C 0.0026 0.00185 0.00399 0.00208 0.00399 0.00116 C 0.00399 0.00046 0.00278 -0.00023 0.00104 -0.00046 C 0.00035 -0.00023 5.55111512312578E-017 -0.00046 -0.00104 7.40741E-007 C -0.00104 -0.00023 -0.00156 0.00023 -0.00174 -0.00046 C -0.00347 0.00093 -0.00451 0.00185 -0.00486 0.00255 C -0.00451 0.00278 -0.00295 0.00324 -0.00174 0.00208 C -0.00035 0.00208 0.00017 0.00185 0.00017 0.00116 C 0.00052 0.00093 0.00104 0.00093 0.00122 0.00023 C 0.00278 -0.00116 0.00295 -0.00278 0.0026 -0.00324 C 0.00191 -0.00324 0.00139 -0.00278 -0.00017 -0.00093 C -0.00087 -0.00023 -0.00104 7.40741000000017E-007 -0.00139 0.00069 C -0.00156 0.00093 -0.00191 0.00139 -0.00156 0.00231 C -0.00243 0.00393 -0.0026 0.00555 -0.00174 0.00579 C -0.00122 0.00579 -0.00017 0.0044 5.55112E-017 0.00255 C 0.00035 0.00162 0.00035 0.00093 0.00069 0.00046 C 0.00087 -0.00023 0.00017 -0.0007 0.00069 -0.00139 C 0.00017 -0.00301 -0.00052 -0.00486 -0.00122 -0.0044 C -0.00139 -0.00486 -0.00174 -0.00301 -0.00174 -0.00093 C -0.00174 7.40741000000017E-007 -0.00104 0.00116 -0.00104 0.00162 C -0.00087 0.00185 -0.00035 0.00208 -0.00052 0.00278 C 0.00052 0.00417 0.00156 0.00509 0.00208 0.00486 C 0.0026 0.0044 0.00208 0.00324 0.00122 0.00162 C 0.00087 0.00069 0.00017 -0.00023 5.55112E-017 7.40741E-007 Z">
                                      <p:cBhvr>
                                        <p:cTn id="156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-0.0007 0.00046 -0.00122 0.00046 -0.00156 0.00093 C -0.00278 0.00185 -0.00382 0.00301 -0.00365 0.0037 C -0.00347 0.00394 -0.00243 0.00394 -0.00104 0.00301 C 1.11111000000003E-006 0.00278 0.00069 0.00208 0.00087 0.00162 C 0.00139 0.00139 0.00156 0.00093 0.00174 -7.40741E-007 C 0.00278 -0.00139 0.00382 -0.00278 0.00312 -0.00347 C 0.00278 -0.00393 0.00174 -0.00278 0.00052 -0.00139 C 1.11111000000003E-006 -0.00069 -0.00035 -7.40741000000017E-007 -0.0007 0.00116 C -0.00087 0.00116 -0.00104 0.00185 -0.00139 0.00208 C -0.00174 0.0044 -0.00174 0.00602 -0.00122 0.00648 C -0.0007 0.00695 1.11111000000003E-006 0.00509 0.00052 0.00324 C 0.00087 0.00232 0.00139 0.00139 0.00087 0.00046 C 0.00069 0.00023 0.00104 -0.00023 0.00087 -0.00116 C 0.00087 -0.00347 0.00017 -0.00463 -0.00017 -0.00463 C -0.0007 -0.00393 -0.00104 -0.00278 -0.0007 -0.00023 C -0.00087 0.00116 -0.0007 0.00116 -0.0007 0.00232 C -0.00052 0.00232 -0.00017 0.00324 0.00052 0.00301 C 0.00069 0.00486 0.00208 0.00625 0.00226 0.00556 C 0.0026 0.00463 0.0026 0.00324 0.00156 0.00162 C 0.00139 0.00093 0.00087 0.00046 0.00069 -0.00023 C 0.00052 -0.00069 -0.00017 -0.00069 -0.00052 -0.00116 C -0.00174 -0.00208 -0.00313 -0.00255 -0.00347 -0.00139 C -0.00347 -0.00093 -0.00278 0.00046 -0.00156 0.00139 C -0.00087 0.00208 -0.00017 0.00232 1.11111E-006 0.00208 C 0.00069 0.00208 0.00087 0.00232 0.00156 0.00232 C 0.0026 0.00185 0.00399 0.00185 0.00417 0.00093 C 0.00417 0.0007 0.0033 -0.00023 0.00174 -7.40741E-007 C 0.00121 -0.00023 0.00017 -7.40741E-007 1.11111E-006 -7.40741E-007 Z">
                                      <p:cBhvr>
                                        <p:cTn id="158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160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C 0.00018 -0.00069 0.00052 -0.00116 0.0007 -0.00185 C 0.00122 -0.0037 0.00139 -0.00555 0.00104 -0.00579 C 0.00052 -0.00602 -0.00034 -0.00486 -0.00087 -0.00301 C -0.00121 -0.00185 -0.00139 -0.00092 -0.00139 -0.00023 C -0.00156 0.00023 -0.00156 0.00093 -0.00156 0.00162 C -0.00156 0.00371 -0.00121 0.00556 -0.00069 0.00556 C -0.00017 0.00556 0.00018 0.00371 0.00018 0.00162 C 0.00018 0.00046 0.00018 -0.00046 -2.22222E-006 -0.00116 C -0.00017 -0.00162 -0.00034 -0.00231 -0.00052 -0.00278 C -0.00104 -0.00486 -0.00191 -0.00602 -0.00243 -0.00579 C -0.00278 -0.00555 -0.0026 -0.0037 -0.00208 -0.00162 C -0.00173 -0.00092 -0.00139 -1.85185E-006 -0.00104 0.00046 C -0.00087 0.00093 -0.00052 0.00139 -0.00017 0.00185 C 0.00087 0.00324 0.00209 0.00371 0.00243 0.00324 C 0.00261 0.00255 0.00209 0.00116 0.00087 -0.00023 C 0.00035 -0.00092 -2.22221999999995E-006 -0.00116 -0.00052 -0.00162 C -0.00087 -0.00185 -0.00139 -0.00208 -0.00173 -0.00208 C -0.00312 -0.00278 -0.00434 -0.00254 -0.00451 -0.00185 C -0.00451 -0.00116 -0.00364 -1.85185E-006 -0.00225 0.00046 C -0.00156 0.00046 -0.00104 0.0007 -0.00052 0.0007 C -0.00017 0.0007 0.00035 0.00046 0.00087 0.00046 C 0.00226 -1.85185E-006 0.0033 -0.00116 0.00313 -0.00185 C 0.00295 -0.00254 0.00174 -0.00278 0.00035 -0.00231 C -0.00017 -0.00208 -0.00087 -0.00162 -0.00121 -0.00139 C -0.00156 -0.00092 -0.00191 -0.00069 -0.00225 -0.00023 C -0.0033 0.00116 -0.00399 0.00255 -0.00364 0.00324 C -0.00347 0.00371 -0.00225 0.00324 -0.00121 0.00185 C -0.00069 0.00116 -0.00017 0.00046 -2.22222E-006 -1.85185E-006 Z">
                                      <p:cBhvr>
                                        <p:cTn id="162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0017 -2.22222000000001E-006 0.00069 -2.22222000000001E-006 0.00121 -0.00023 C 0.00243 -0.00116 0.00364 -0.00208 0.00347 -0.00278 C 0.00347 -0.00324 0.00226 -0.00324 0.00087 -0.00254 C 1.94444000000001E-006 -0.00231 -0.00087 -0.00208 -0.00122 -0.00162 C -0.00156 -0.00139 -0.00191 -0.00092 -0.00226 -0.00046 C -0.00347 0.00093 -0.00452 0.00232 -0.00399 0.00301 C -0.00365 0.00347 -0.00261 0.00278 -0.00122 0.00139 C -0.0007 0.0007 -0.00018 0.00023 0.00035 -0.00069 C 0.00035 -0.00092 0.00069 -0.00162 0.00087 -0.00185 C 0.00173 -0.00393 0.00191 -0.00555 0.00156 -0.00625 C 0.00104 -0.00625 1.94444000000001E-006 -0.00486 -0.0007 -0.00324 C -0.00104 -0.00231 -0.00156 -0.00139 -0.00122 -0.00069 C -0.00139 -0.00023 -0.00156 0.00047 -0.00156 0.00116 C -0.00174 0.00324 -0.00104 0.00463 -0.00087 0.00463 C -0.00018 0.0044 0.00017 0.00324 0.00017 0.0007 C 0.00035 -0.00046 0.00035 -0.00069 0.00035 -0.00162 C 1.94444000000001E-006 -0.00208 1.94444000000001E-006 -0.00278 -0.00052 -0.00301 C -0.00087 -0.00486 -0.00174 -0.00625 -0.00226 -0.00578 C -0.00278 -0.00509 -0.00278 -0.00347 -0.00209 -0.00185 C -0.00174 -0.00092 -0.00139 -0.00046 -0.00122 0.00023 C -0.00104 0.0007 -0.00035 0.0007 -0.00018 0.00139 C 0.00087 0.00255 0.00226 0.00301 0.00278 0.00209 C 0.00295 0.00162 0.00226 0.00023 0.00121 -0.00092 C 0.00052 -0.00162 1.94444000000001E-006 -0.00185 -0.00035 -0.00208 C -0.00087 -0.00208 -0.00104 -0.00231 -0.00174 -0.00231 C -0.00295 -0.00254 -0.00434 -0.00231 -0.00469 -0.00162 C -0.00469 -0.00092 -0.00365 -0.00023 -0.00226 -2.22222E-006 C -0.00156 0.00023 -0.0007 0.00023 -0.00052 0.00023 Z">
                                      <p:cBhvr>
                                        <p:cTn id="164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162 C -0.00104 -0.00208 -0.00139 -0.00255 -0.00191 -0.00278 C -0.0033 -0.00324 -0.00468 -0.00347 -0.00486 -0.00278 C -0.00503 -0.00255 -0.00416 -0.00139 -0.00277 -0.00069 C -0.00191 -0.00023 -0.00121 0.00046 -0.00069 0.00023 C -0.00034 0.00046 0.00018 0.00046 0.0007 0.00023 C 0.00226 0.00023 0.00365 0.00023 0.00365 -0.00093 C 0.00365 -0.00162 0.00243 -0.00185 0.0007 -0.00208 C -3.05556E-006 -0.00185 -0.00052 -0.00208 -0.00139 -0.00162 C -0.00156 -0.00162 -0.00208 -0.00139 -0.00243 -0.00139 C -0.00399 -0.00046 -0.00503 0.00069 -0.00503 0.00139 C -0.00468 0.00185 -0.00312 0.00185 -0.00191 0.00116 C -0.00121 0.00069 -0.00034 0.00046 -0.00017 -0.00046 C 0.00018 -0.00069 0.00052 -0.00093 0.00087 -0.00162 C 0.00209 -0.00301 0.00226 -0.00463 0.00209 -0.00486 C 0.00139 -0.00509 0.00052 -0.00463 -0.00069 -0.00255 C -0.00139 -0.00185 -0.00139 -0.00162 -0.00191 -0.00093 C -0.00191 -0.00046 -0.00225 0.00023 -0.00191 0.00069 C -0.0026 0.00255 -0.0026 0.0044 -0.00191 0.0044 C -0.00121 0.0044 -0.00034 0.00301 -0.00017 0.00116 C -3.05556E-006 0.00023 -3.05556E-006 -0.00046 0.00018 -0.00116 C 0.00035 -0.00162 -0.00017 -0.00232 -3.05556E-006 -0.00278 C -0.00034 -0.00463 -0.00121 -0.00625 -0.00191 -0.00602 C -0.00225 -0.00579 -0.00243 -0.00417 -0.00225 -0.00232 C -0.00208 -0.00116 -0.00173 -0.00046 -0.00156 3.7037E-007 C -0.00121 0.00046 -0.00121 0.00069 -0.00069 0.00139 C 0.00018 0.00255 0.00139 0.00347 0.00191 0.00324 C 0.00226 0.00278 0.00191 0.00139 0.00087 3.7037E-007 C 0.00052 -0.00069 -0.00017 -0.00162 -0.00034 -0.00162 Z">
                                      <p:cBhvr>
                                        <p:cTn id="166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C 0.00035 -0.00093 0.0007 -0.00139 0.00104 -0.00208 C 0.00139 -0.00417 0.00156 -0.00602 0.00104 -0.00602 C 0.00087 -0.00625 -0.00017 -0.00533 -0.00052 -0.00301 C -0.00104 -0.00208 -0.00139 -0.00139 -0.00139 -0.00046 C -0.00139 1.11110999999998E-006 -0.00156 0.00046 -0.00139 0.00116 C -0.00121 0.00347 -0.00121 0.00509 -0.00052 0.00509 C -2.22221999999995E-006 0.00532 0.00035 0.0037 0.00035 0.00139 C 0.00018 0.00046 0.00035 -0.00023 -0.00017 -0.00162 C 0.00018 -0.00162 -0.00017 -0.00255 -2.22222E-006 -0.00255 C -0.00087 -0.00463 -0.00173 -0.00625 -0.00225 -0.00648 C -0.00243 -0.00602 -0.0026 -0.00394 -0.00208 -0.00208 C -0.00156 -0.00116 -0.00139 1.11111E-006 -0.00087 0.00023 C -0.00069 0.00069 -0.00052 0.00116 -2.22222E-006 0.00139 C 0.00104 0.00324 0.00226 0.0037 0.00261 0.00324 C 0.00261 0.00231 0.00243 0.00139 0.0007 -0.00046 C 0.00018 -0.00139 -0.00017 -0.00162 -0.00034 -0.00208 C -0.00087 -0.00208 -0.00121 -0.00278 -0.00173 -0.00185 C -0.0033 -0.00301 -0.00451 -0.00301 -0.00451 -0.00208 C -0.00451 -0.00116 -0.0033 -0.00023 -0.00191 0.00023 C -0.00121 0.00046 -0.00069 0.00023 -0.00052 0.00069 C -2.22221999999995E-006 0.00092 0.00052 1.11110999999998E-006 0.00104 0.00046 C 0.00226 1.11110999999998E-006 0.00347 -0.00139 0.0033 -0.00232 C 0.00313 -0.00232 0.00191 -0.00278 0.00052 -0.00278 C -0.00034 -0.00232 -0.00087 -0.00162 -0.00139 -0.00139 C -0.00139 -0.00116 -0.00156 -0.00116 -0.00225 -0.00046 C -0.00312 0.00046 -0.00364 0.00231 -0.00347 0.00301 C -0.00312 0.00347 -0.00243 0.00278 -0.00104 0.00139 C -0.00069 0.00092 0.00018 1.11111E-006 -2.22222E-006 1.11111E-006 Z">
                                      <p:cBhvr>
                                        <p:cTn id="168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C -0.00052 0.00046 -0.00104 0.00069 -0.00139 0.00069 C -0.0026 0.00231 -0.00347 0.00347 -0.0033 0.00417 C -0.00312 0.0044 -0.00208 0.00393 -0.00052 0.00347 C 0.00017 0.00255 0.00087 0.00185 0.00104 0.00162 C 0.00156 0.00116 0.00174 0.00069 0.00174 7.40741E-007 C 0.00295 -0.00162 0.00382 -0.00324 0.00295 -0.00347 C 0.00261 -0.00417 0.00174 -0.00301 0.00052 -0.00139 C 0.00017 -0.00046 -0.00017 7.40741000000017E-007 -0.00035 0.00116 C -0.00069 0.00116 -0.00052 0.00231 -0.00087 0.00255 C -0.00139 0.00463 -0.00121 0.00625 -0.00052 0.00694 C -0.00035 0.00671 0.00052 0.00509 0.0007 0.00324 C 0.00122 0.00231 0.00156 0.00116 0.00104 0.00046 C 0.00087 7.40741000000017E-007 0.00122 -0.00046 0.00087 -0.00116 C 0.0007 -0.00347 -8.33333000000022E-007 -0.0044 -0.00035 -0.00463 C -0.00087 -0.00394 -0.00104 -0.00255 -0.00052 7.40741E-007 C -0.00052 0.00116 -0.00035 0.00116 -0.00035 0.00208 C -0.00017 0.00231 0.00035 0.00347 0.00052 0.00301 C 0.00139 0.00509 0.00261 0.00602 0.00261 0.00509 C 0.00313 0.00463 0.00295 0.00301 0.00191 0.00139 C 0.00156 0.00093 0.00104 0.00046 0.00087 -0.00023 C 0.0007 -0.0007 -0.00017 -0.00046 -0.00035 -0.00116 C -0.00174 -0.00185 -0.00312 -0.00208 -0.00347 -0.0007 C -0.00347 -0.00046 -0.0026 0.00069 -0.00139 0.00162 C -0.00052 0.00231 -8.33333000000022E-007 0.00231 0.00035 0.00231 C 0.00087 0.00185 0.00122 0.00231 0.00191 0.00208 C 0.00295 0.00185 0.00434 0.00116 0.00451 0.00046 C 0.00434 7.40741000000017E-007 0.0033 -0.00046 0.00191 -0.00023 C 0.00122 -0.00023 0.00035 7.40741E-007 -8.33333E-007 7.40741E-007 Z">
                                      <p:cBhvr>
                                        <p:cTn id="170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7 0.00023 0.00122 0.00046 0.00157 0.00092 C 0.0033 0.00069 0.00469 0.00023 0.00469 -0.00047 C 0.00452 -0.0007 0.00365 -0.00163 0.00191 -0.00139 C 0.00122 -0.00186 0.00035 -0.00209 -0.00017 -0.00186 C -0.00052 -0.00163 -0.00086 -0.00139 -0.00139 -0.00116 C -0.00277 -0.00047 -0.00416 0.00023 -0.00399 0.00115 C -0.00382 0.00162 -0.0026 0.00162 -0.00086 0.00115 C -0.00034 0.00046 0.00018 0.00046 0.00104 -0.00024 C 0.00104 4.81481E-006 0.00157 -0.00093 0.00174 -0.0007 C 0.00313 -0.00232 0.004 -0.00394 0.00382 -0.00463 C 0.00348 -0.00463 0.00191 -0.0044 0.00087 -0.00325 C 0.00018 -0.00209 -0.00052 -0.00163 -0.00034 -0.00093 C -0.00069 -0.00047 -0.00104 -0.00024 -0.00121 0.00069 C -0.00208 0.00231 -0.00191 0.00416 -0.00156 0.00439 C -0.00086 0.00416 -0.00017 0.0037 0.00035 0.00092 C 0.00087 4.81481000000003E-006 0.00104 -0.00024 0.00122 -0.00093 C 0.00122 -0.00139 0.00139 -0.00232 0.00087 -0.00255 C 0.00122 -0.00487 0.00087 -0.00649 -3.05556E-006 -0.00625 C -0.00052 -0.00602 -0.00104 -0.00417 -0.00069 -0.00232 C -0.00069 -0.00139 -0.00052 -0.0007 -0.00052 -0.00024 C -0.00086 0.00046 -3.05556E-006 0.00092 -3.05556E-006 0.00162 C 0.0007 0.003 0.00191 0.00416 0.00243 0.0037 C 0.00261 0.0037 0.00261 0.00185 0.00191 4.81481E-006 C 0.00157 -0.00093 0.00087 -0.00139 0.0007 -0.00186 C 0.00035 -0.00209 0.00018 -0.00209 -0.00034 -0.00278 C -0.00139 -0.00371 -0.00277 -0.00394 -0.00312 -0.00348 C -0.00364 -0.00278 -0.00277 -0.00186 -0.00139 -0.0007 C -0.00104 -0.00047 -0.00017 0.00046 -3.05556E-006 4.81481E-006 Z">
                                      <p:cBhvr>
                                        <p:cTn id="172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174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176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39 C -0.0007 -0.00209 -0.00087 -0.00278 -0.00122 -0.00324 C -0.00243 -0.0044 -0.00365 -0.00533 -0.00399 -0.00487 C -0.00417 -0.00463 -0.00382 -0.00301 -0.00261 -0.00186 C -0.00209 -0.00093 -0.00156 4.07407000000001E-006 -0.00104 0.00023 C -0.0007 0.00046 -0.00035 0.00069 0.00017 0.00092 C 0.00173 0.00162 0.00295 0.00231 0.0033 0.00138 C 0.00347 0.00069 0.00243 -0.00024 0.00087 -0.00139 C 0.00017 -0.00139 -0.00018 -0.00186 -0.00122 -0.00186 C -0.00122 -0.00209 -0.00191 -0.00209 -0.00209 -0.00232 C -0.00382 -0.00209 -0.00521 -0.00162 -0.00538 -0.00093 C -0.00521 -0.00047 -0.00382 0.00046 -0.00243 0.00046 C -0.00156 0.00023 -0.0007 0.00046 -0.00035 -0.00024 C 1.94444000000001E-006 -0.00024 0.00035 -0.00024 0.00087 -0.0007 C 0.00243 -0.00139 0.00312 -0.00278 0.00295 -0.00324 C 0.00243 -0.00371 0.00156 -0.00371 -0.00018 -0.00232 C -0.00104 -0.00209 -0.00122 -0.00186 -0.00174 -0.00162 C -0.00191 -0.00116 -0.00243 -0.0007 -0.00226 4.07407E-006 C -0.00347 0.00138 -0.00399 0.00301 -0.0033 0.00347 C -0.00278 0.0037 -0.00156 0.00277 -0.00087 0.00115 C -0.00035 0.00046 -0.00018 -0.00024 0.00017 -0.0007 C 0.00052 -0.00093 0.00017 -0.00186 0.00052 -0.00232 C 0.00069 -0.00417 0.00035 -0.00602 -0.00035 -0.00625 C -0.0007 -0.00625 -0.00139 -0.00487 -0.00174 -0.00301 C -0.00191 -0.00186 -0.00174 -0.00093 -0.00174 -0.00047 C -0.00156 4.07407000000001E-006 -0.00156 0.00023 -0.00139 0.00115 C -0.00087 0.00277 1.94444000000001E-006 0.00416 0.00052 0.00416 C 0.00104 0.00393 0.00104 0.00254 0.00052 0.00069 C 0.00035 4.07407000000001E-006 1.94444000000001E-006 -0.00139 -0.00018 -0.00139 Z">
                                      <p:cBhvr>
                                        <p:cTn id="178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C -0.00034 0.0007 -0.00052 0.00139 -0.00069 0.00208 C -0.00104 0.00394 -0.00121 0.00509 -0.00069 0.00556 C -0.00069 0.00602 0.00035 0.00533 0.00087 0.00324 C 0.00122 0.00208 0.00174 0.00116 0.00122 0.00023 C 0.00174 -1.11111E-006 0.00157 -0.00092 0.00139 -0.00139 C 0.00157 -0.00393 0.00139 -0.00555 0.00052 -0.00532 C 0.00018 -0.00555 -0.00017 -0.00393 -0.00017 -0.00162 C 0.00018 -0.00069 -0.00017 -0.00023 0.00018 0.00139 C -3.61111000000001E-006 0.00139 0.00035 0.00232 0.00035 0.00208 C 0.00105 0.00486 0.00191 0.00579 0.00243 0.00602 C 0.00296 0.00533 0.00261 0.00347 0.00226 0.00185 C 0.00191 0.00093 0.00174 -1.11111000000003E-006 0.00087 -0.00069 C 0.0007 -0.00092 0.0007 -0.00162 0.00018 -0.00185 C -0.00086 -0.0037 -0.00208 -0.0037 -0.00225 -0.00324 C -0.0026 -0.00231 -0.00208 -0.00116 -0.00052 0.00023 C -0.00034 0.00093 0.00018 0.00139 0.0007 0.00208 C 0.00105 0.00208 0.00157 0.00232 0.00174 0.00162 C 0.00313 0.00255 0.00452 0.00255 0.00452 0.00185 C 0.00469 0.00139 0.00365 -1.11111E-006 0.00226 -0.00023 C 0.00157 -0.00046 0.00087 -0.00069 0.00018 -0.00092 C 0.00018 -0.00116 -0.00034 -0.00046 -0.00069 -0.00069 C -0.00208 -1.11111000000003E-006 -0.00329 0.00116 -0.00312 0.00185 C -0.00312 0.00232 -0.00173 0.00255 -0.00052 0.00255 C 0.00052 0.00232 0.00105 0.00185 0.00139 0.00162 C 0.00174 0.00116 0.00191 0.00093 0.00243 0.00023 C 0.0033 -0.00116 0.004 -0.00278 0.00365 -0.00324 C 0.00348 -0.00347 0.00226 -0.00324 0.00122 -0.00185 C 0.00105 -0.00116 0.00018 -0.00069 -3.61111E-006 -1.11111E-006 Z">
                                      <p:cBhvr>
                                        <p:cTn id="180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C 0.00052 0.00069 0.00069 0.00139 0.00087 0.00208 C 0.00225 0.00324 0.00347 0.00416 0.00382 0.00347 C 0.00382 0.00347 0.00364 0.00162 0.00225 0.00046 C 0.00191 -0.00047 0.00139 -0.00116 0.00087 -0.00162 C 0.00034 -0.00186 2.50000000000001E-006 -0.00209 -0.00035 -0.00232 C -0.00191 -0.00278 -0.0033 -0.00348 -0.00347 -0.00278 C -0.00365 -0.00209 -0.00278 -0.00093 -0.00122 3.33333E-006 C -0.00035 3.33333E-006 -0.00018 0.00046 0.00104 0.00046 C 0.00087 0.00069 0.00173 0.00069 0.00173 0.00092 C 0.00347 0.00069 0.00503 0.00023 0.00521 -0.00047 C 0.00486 -0.0007 0.00364 -0.00186 0.00225 -0.00186 C 0.00121 -0.00162 0.00034 -0.00186 0.00017 -0.00116 C -0.00018 -0.00116 -0.00052 -0.00116 -0.00104 -0.0007 C -0.00261 3.33332999999999E-006 -0.00347 0.00139 -0.0033 0.00208 C -0.00261 0.00231 -0.00191 0.00254 -0.00018 0.00092 C 0.00069 0.00069 0.00104 0.00046 0.00139 0.00023 C 0.00173 3.33333000000001E-006 0.00225 -0.00047 0.00191 -0.00139 C 0.0033 -0.00278 0.00382 -0.0044 0.00295 -0.00486 C 0.0026 -0.0051 0.00121 -0.00417 0.00052 -0.00255 C 0.00017 -0.00162 2.50000000000001E-006 -0.00093 -0.00035 -0.0007 C -0.00087 -0.00047 -0.00035 0.00046 -0.0007 0.00115 C -0.00087 0.00277 -0.00052 0.00463 0.00017 0.00486 C 0.00034 0.00486 0.00121 0.0037 0.00156 0.00162 C 0.00173 0.00046 0.00139 -0.00047 0.00139 -0.00093 C 0.00139 -0.00116 0.00121 -0.00162 0.00104 -0.00232 C 0.00069 -0.00417 -0.00018 -0.00533 -0.0007 -0.00533 C -0.00139 -0.00533 -0.00122 -0.00394 -0.0007 -0.00186 C -0.00052 -0.00139 -0.00018 0.00023 2.5E-006 3.33333E-006 Z">
                                      <p:cBhvr>
                                        <p:cTn id="182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C 0.0007 0.00023 0.00122 0.00046 0.00174 0.00046 C 0.00313 0.00023 0.004 0.00023 0.00417 -0.00069 C 0.00452 -0.00069 0.00382 -0.00185 0.00209 -0.00185 C 0.00122 -0.00208 0.00035 -0.00255 -0.00017 -0.00162 C -0.00052 -0.00208 -0.00104 -0.00162 -0.00139 -0.00139 C -0.0033 -0.00069 -0.00416 -0.00023 -0.00399 0.00093 C -0.00382 0.00139 -0.00278 0.00139 -0.00104 0.0007 C -0.00052 -1.11111000000003E-006 -1.94444000000001E-006 0.00046 0.00104 -0.00046 C 0.00104 -0.00023 0.00156 -0.00092 0.00139 -0.00092 C 0.0033 -0.00255 0.00365 -0.00393 0.00382 -0.00486 C 0.00313 -0.00486 0.00174 -0.00417 0.0007 -0.00324 C 0.00018 -0.00255 -0.00052 -0.00208 -0.00069 -0.00092 C -0.00087 -0.00046 -0.00139 -0.00023 -0.00139 0.00046 C -0.00243 0.00232 -0.00208 0.0037 -0.00173 0.00394 C -0.00087 0.00417 -0.00017 0.00301 0.00035 0.0007 C 0.00087 0.00023 0.00104 -0.00046 0.00139 -0.00139 C 0.00122 -0.00185 0.00122 -0.00255 0.0007 -0.00255 C 0.00104 -0.00463 0.00052 -0.00648 0.00018 -0.00625 C -0.00035 -0.00625 -0.00104 -0.00463 -0.00069 -0.00278 C -0.00069 -0.00185 -0.00069 -0.00092 -0.00069 0.00023 C -0.00087 0.00023 -0.00017 0.0007 -0.00035 0.00116 C 0.0007 0.00278 0.00174 0.00394 0.00226 0.00347 C 0.00261 0.00347 0.00243 0.00162 0.00209 -1.11111E-006 C 0.00156 -0.00116 0.00104 -0.00185 0.00087 -0.00208 C 0.00035 -0.00255 0.00018 -0.00255 -0.00052 -0.00301 C -0.00173 -0.0037 -0.00312 -0.00417 -0.0033 -0.0037 C -0.00347 -0.00347 -0.00295 -0.00185 -0.00156 -0.00092 C -0.00104 -0.00092 -0.00052 -1.11111E-006 -1.94444E-006 -1.11111E-006 Z">
                                      <p:cBhvr>
                                        <p:cTn id="184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40741E-007 C -0.00069 -0.00046 -0.00104 -0.00093 -0.00104 -0.00139 C -0.0026 -0.00208 -0.00399 -0.00278 -0.00417 -0.00208 C -0.00417 -0.00185 -0.00382 7.40741000000017E-007 -0.00226 0.00046 C -0.00156 0.00139 -0.00087 0.00185 -0.00035 0.00185 C 0.00017 0.00185 0.00052 0.00185 0.00122 0.00208 C 0.0026 0.00185 0.00399 0.00208 0.00399 0.00116 C 0.00399 0.00046 0.00278 -0.00023 0.00104 -0.00046 C 0.00035 -0.00023 5.55111512312578E-017 -0.00046 -0.00104 7.40741E-007 C -0.00104 -0.00023 -0.00156 0.00023 -0.00174 -0.00046 C -0.00347 0.00093 -0.00451 0.00185 -0.00486 0.00255 C -0.00451 0.00278 -0.00295 0.00324 -0.00174 0.00208 C -0.00035 0.00208 0.00017 0.00185 0.00017 0.00116 C 0.00052 0.00093 0.00104 0.00093 0.00122 0.00023 C 0.00278 -0.00116 0.00295 -0.00278 0.0026 -0.00324 C 0.00191 -0.00324 0.00139 -0.00278 -0.00017 -0.00093 C -0.00087 -0.00023 -0.00104 7.40741000000017E-007 -0.00139 0.00069 C -0.00156 0.00093 -0.00191 0.00139 -0.00156 0.00231 C -0.00243 0.00393 -0.0026 0.00555 -0.00174 0.00579 C -0.00122 0.00579 -0.00017 0.0044 5.55112E-017 0.00255 C 0.00035 0.00162 0.00035 0.00093 0.00069 0.00046 C 0.00087 -0.00023 0.00017 -0.0007 0.00069 -0.00139 C 0.00017 -0.00301 -0.00052 -0.00486 -0.00122 -0.0044 C -0.00139 -0.00486 -0.00174 -0.00301 -0.00174 -0.00093 C -0.00174 7.40741000000017E-007 -0.00104 0.00116 -0.00104 0.00162 C -0.00087 0.00185 -0.00035 0.00208 -0.00052 0.00278 C 0.00052 0.00417 0.00156 0.00509 0.00208 0.00486 C 0.0026 0.0044 0.00208 0.00324 0.00122 0.00162 C 0.00087 0.00069 0.00017 -0.00023 5.55112E-017 7.40741E-007 Z">
                                      <p:cBhvr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-0.0007 0.00046 -0.00122 0.00046 -0.00156 0.00093 C -0.00278 0.00185 -0.00382 0.00301 -0.00365 0.0037 C -0.00347 0.00394 -0.00243 0.00394 -0.00104 0.00301 C 1.11111000000003E-006 0.00278 0.00069 0.00208 0.00087 0.00162 C 0.00139 0.00139 0.00156 0.00093 0.00174 -7.40741E-007 C 0.00278 -0.00139 0.00382 -0.00278 0.00312 -0.00347 C 0.00278 -0.00393 0.00174 -0.00278 0.00052 -0.00139 C 1.11111000000003E-006 -0.00069 -0.00035 -7.40741000000017E-007 -0.0007 0.00116 C -0.00087 0.00116 -0.00104 0.00185 -0.00139 0.00208 C -0.00174 0.0044 -0.00174 0.00602 -0.00122 0.00648 C -0.0007 0.00695 1.11111000000003E-006 0.00509 0.00052 0.00324 C 0.00087 0.00232 0.00139 0.00139 0.00087 0.00046 C 0.00069 0.00023 0.00104 -0.00023 0.00087 -0.00116 C 0.00087 -0.00347 0.00017 -0.00463 -0.00017 -0.00463 C -0.0007 -0.00393 -0.00104 -0.00278 -0.0007 -0.00023 C -0.00087 0.00116 -0.0007 0.00116 -0.0007 0.00232 C -0.00052 0.00232 -0.00017 0.00324 0.00052 0.00301 C 0.00069 0.00486 0.00208 0.00625 0.00226 0.00556 C 0.0026 0.00463 0.0026 0.00324 0.00156 0.00162 C 0.00139 0.00093 0.00087 0.00046 0.00069 -0.00023 C 0.00052 -0.00069 -0.00017 -0.00069 -0.00052 -0.00116 C -0.00174 -0.00208 -0.00313 -0.00255 -0.00347 -0.00139 C -0.00347 -0.00093 -0.00278 0.00046 -0.00156 0.00139 C -0.00087 0.00208 -0.00017 0.00232 1.11111E-006 0.00208 C 0.00069 0.00208 0.00087 0.00232 0.00156 0.00232 C 0.0026 0.00185 0.00399 0.00185 0.00417 0.00093 C 0.00417 0.0007 0.0033 -0.00023 0.00174 -7.40741E-007 C 0.00121 -0.00023 0.00017 -7.40741E-007 1.11111E-006 -7.40741E-007 Z">
                                      <p:cBhvr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autoRev="1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C -0.00069 -2.59259E-006 -0.00104 0.00023 -0.00156 0.00047 C -0.00295 0.00116 -0.00382 0.00162 -0.00382 0.00255 C -0.00399 0.00278 -0.00295 0.00347 -0.00139 0.00278 C -0.00052 0.00255 0.00035 0.00255 0.00052 0.00139 C 0.00104 0.00185 0.00157 0.00116 0.00174 0.0007 C 0.0033 -0.00046 0.00417 -0.00162 0.00365 -0.00254 C 0.00348 -0.00301 0.00226 -0.00254 0.00087 -0.00115 C 0.00052 -0.00023 -2.77777999999995E-006 -0.00023 -0.00069 0.00093 C -0.00087 0.0007 -0.00121 0.00162 -0.00121 0.00185 C -0.00225 0.00394 -0.00243 0.00556 -0.00243 0.00625 C -0.00156 0.00625 -0.00052 0.00486 0.00018 0.00347 C 0.00052 0.00255 0.00104 0.00185 0.00087 0.00047 C 0.00104 0.00023 0.00139 -0.00023 0.00122 -0.00092 C 0.00174 -0.00301 0.00104 -0.0044 0.0007 -0.0044 C -2.77777999999995E-006 -0.00416 -0.00052 -0.00301 -0.00034 -0.00046 C -0.00069 0.00023 -0.00069 0.00093 -0.00087 0.00185 C -0.00069 0.00232 -0.00052 0.00301 -2.77778E-006 0.00278 C 0.00035 0.00486 0.00104 0.00648 0.00157 0.00602 C 0.00191 0.00579 0.00209 0.00394 0.00157 0.00232 C 0.00122 0.00139 0.00087 0.00047 0.0007 -0.00023 C 0.0007 -0.00046 0.00018 -0.00069 -2.77778E-006 -0.00115 C -0.00121 -0.00231 -0.0026 -0.00301 -0.00295 -0.00231 C -0.0033 -0.00208 -0.0026 -0.00046 -0.00173 0.00093 C -0.00104 0.00185 -0.00052 0.00209 -0.00017 0.00232 C 0.00035 0.00255 0.00052 0.00255 0.00139 0.00278 C 0.00261 0.00301 0.004 0.00278 0.00417 0.00209 C 0.00417 0.00162 0.0033 0.00047 0.00191 0.00023 C 0.00139 0.00047 0.00052 -0.00023 -2.77778E-006 -2.59259E-006 Z">
                                      <p:cBhvr>
                                        <p:cTn id="190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1o 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ΠΑΡΑΔΟΞΟ ΤΩΝ ΣΩΜΑΤΙΔΙΩ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66"/>
                </a:solidFill>
                <a:latin typeface="Arial"/>
              </a:rPr>
              <a:t>Ένα σωματίδιο δεν μπορεί να είναι ακίνητο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63E1-5C9A-4286-A1C1-DC1B277F28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Ερμηνείας συνέχεια…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σωματίδια δεν μπορούν να κινηθούν ευθύγραμμα. ( η τρεμόδης κίνηση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σωματίδια δεν κινούνται σε συγκεκριμένες τροχιέ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838080" y="4191120"/>
                <a:ext cx="7315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Ε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t xml:space="preserve">≈</m:t>
                    </m:r>
                    <m:r>
                      <m:t xml:space="preserve">ℏ</m:t>
                    </m:r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ℏ</m:t>
                    </m:r>
                    <m:r>
                      <m:t xml:space="preserve">→</m:t>
                    </m:r>
                    <m:r>
                      <m:t xml:space="preserve">Δx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762120" y="54864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αβεβαιότητα της τροχιάς εξαρτάται από τη μάζα του σωματιδί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707-C14B-4BF2-9D06-68C8C0F03C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232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Το ταξίδι στο μικρόκοσμο επιφυλάσσει πολλές εκπλήξεις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461360" cy="39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22360" y="1517760"/>
            <a:ext cx="4491360" cy="5910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71640" y="6002280"/>
            <a:ext cx="5745240" cy="855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0D8-7DAE-427C-9D84-09AEDE7C3A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Η τρεμόδης κίνηση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63120" y="1720800"/>
            <a:ext cx="78822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να σωματίδιο δεν κινείται ευθύγραμμα. Δεν υπάρχει η έννοια της τροχιά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06640" y="2727360"/>
            <a:ext cx="7280280" cy="35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353-746D-47E7-B7E3-A387CE6BE8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6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Στο μικρόκοσμο δεν υπάρχει ακινησία!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773280" y="2208240"/>
            <a:ext cx="777240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63A-4F39-4EA0-A33E-2F45F9E913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2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709560" y="635040"/>
            <a:ext cx="8434440" cy="11556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Το μέγεθος του ατόμου καθορίζεται από το ηλεκτρονικό νέφος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28640" y="2106720"/>
            <a:ext cx="777240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9EB-06B3-4327-9913-3DA8469FFE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8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829560" y="524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Αν βάλουμε και άλλα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ν σε ένα χώρο βάλουμε πχ 100 φερμιόνια τότε το κάθε φερμιόνιο έχει στη διάθεσή του το 1/100 του χώρου, άρα λόγω της αρχής της αβεβαιότητας το σύστημα έχει πολύ μεγαλύτερη ενέργεια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ρχή το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uli (192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α φερμιόνια και τα μποζόνι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F57-0009-4BD6-8387-294F9D5D3E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220215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Δίδυμη γένεση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ια μικρό χρόνο 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παραβιαστεί η Α.Δ.Ε και να δημιουργηθούν από το 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</a:rPr>
              <a:t>ΠΟΥΘΕΝΑ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να ηλεκτρόνιο και ένα ποζιτρόνιο, ή για ακόμη μικρότερο χρόνο ένα πρωτόνιο και ένα αντιπρωτόνιο κλπ. Πάντα μαζί με το σωματίδιο θα πρέπει να δημιουργηθεί και ένα αντισωματίδιο αφού η αρχή της αβεβαιότητας δεν ισχύει για το ηλεκτρικό φορτίο που πάντα πρέπει να διατηρείτα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DF3-E303-45E7-96D8-EAF172865C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54120" y="290520"/>
            <a:ext cx="8489880" cy="18874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Το κενό δεν είναι «κενό». Αντίθετα είναι ένα τεράστιο καζάνι που βράζε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214720" y="2389320"/>
            <a:ext cx="5019480" cy="39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50E-C880-43AA-9FBC-62CD71760E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3600" spc="-1" strike="noStrike" baseline="30000">
                <a:solidFill>
                  <a:srgbClr val="003366"/>
                </a:solidFill>
                <a:latin typeface="Arial"/>
              </a:rPr>
              <a:t>ο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ΠΑΡΑΔΟΞΟ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66"/>
                </a:solidFill>
                <a:latin typeface="Arial"/>
              </a:rPr>
              <a:t>Ένα σωματίδιο δεν μπορεί να κινείται ευθύγραμμα. Δεν μπορεί να κινείται σε συγκεκριμένη τροχιά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5A5D4-6438-4CC4-A185-8879389424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Το φαινόμενο σήραγγας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533680" y="39304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139760" y="4711680"/>
            <a:ext cx="3033720" cy="37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87520" y="3392640"/>
            <a:ext cx="324000" cy="1311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49320" y="4357800"/>
            <a:ext cx="344520" cy="344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70360" y="4356000"/>
            <a:ext cx="344520" cy="344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400560" y="1989000"/>
                <a:ext cx="54435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Ε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t xml:space="preserve">≈</m:t>
                    </m:r>
                    <m:r>
                      <m:t xml:space="preserve">ℏ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ℏ</m:t>
                    </m:r>
                    <m:r>
                      <m:t xml:space="preserve">→</m:t>
                    </m:r>
                    <m:r>
                      <m:t xml:space="preserve">Δx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 flipV="1">
            <a:off x="2043000" y="4519440"/>
            <a:ext cx="1089000" cy="22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11560" y="4537080"/>
            <a:ext cx="7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08360" y="3432240"/>
            <a:ext cx="0" cy="1247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73440" y="377676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7000" y="3398760"/>
            <a:ext cx="4819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να ακόμη παράξενο φαινόμενο του μικρόκοσμου με πολλές πρακτικές εφαρμογέ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τέλεια δραπέτευση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95440" y="3294000"/>
            <a:ext cx="303480" cy="333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4B5-FFC0-4CA3-8A47-11E289E6E2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9516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Το μικροσκόπιο σήραγγα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74400" y="5839920"/>
            <a:ext cx="446868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Heinrich Rohrer and Gerd K. Binnig,</a:t>
            </a: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at IBM's Zurich Research Laboratory in Switzerland, are awarded the 1986 Nobel Priz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782640" y="1616040"/>
            <a:ext cx="4059360" cy="24019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105520" y="4118040"/>
            <a:ext cx="3641760" cy="2509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5130720" y="1628640"/>
            <a:ext cx="3614760" cy="23986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1488960" y="4173480"/>
            <a:ext cx="2265480" cy="15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552-F558-40BF-9BE9-D46518D3D6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3600" spc="-1" strike="noStrike" baseline="30000">
                <a:solidFill>
                  <a:srgbClr val="003366"/>
                </a:solidFill>
                <a:latin typeface="Arial"/>
              </a:rPr>
              <a:t>ο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ΠΑΡΑΔΟΞΟ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66"/>
                </a:solidFill>
                <a:latin typeface="Arial"/>
              </a:rPr>
              <a:t>Ένα σωματίδιο μπορεί να δραπετεύσει με έναν μαγικό τρόπο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E12E-724D-441F-86C6-7F2B508498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96960" y="49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Οι ιδιότητες ενός σώματος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φυσική του κατάσταση ( στερεό , υγρό ή αέριο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 χρώμα τ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μυρωδιά του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γεύση το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χημική του σύστα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91E-6644-44FB-B394-A0E9EFF15F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68160" y="304920"/>
            <a:ext cx="8475840" cy="18144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Ένας μηχανισμός ερμηνείας της παράξενης συμπεριφοράς των σωματιδίων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11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άθε σωματίδιο μπορεί να εκπέμψει ή να απορροφήσει ένα ή περισσότερα άλλα σωματίδια. Έτσι η πορεία ενός ηλεκτρονίου καθορίζεται από συνεχείς εκπομπές και απορροφήσεις φωτονίων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ynman 19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454640" y="4975200"/>
            <a:ext cx="1769760" cy="480960"/>
            <a:chOff x="4454640" y="4975200"/>
            <a:chExt cx="1769760" cy="480960"/>
          </a:xfrm>
        </p:grpSpPr>
        <p:sp>
          <p:nvSpPr>
            <p:cNvPr id="439" name=""/>
            <p:cNvSpPr/>
            <p:nvPr/>
          </p:nvSpPr>
          <p:spPr>
            <a:xfrm>
              <a:off x="4454640" y="4983120"/>
              <a:ext cx="841320" cy="249120"/>
            </a:xfrm>
            <a:custGeom>
              <a:avLst/>
              <a:gdLst/>
              <a:ahLst/>
              <a:rect l="l" t="t" r="r" b="b"/>
              <a:pathLst>
                <a:path w="530" h="157">
                  <a:moveTo>
                    <a:pt x="0" y="14"/>
                  </a:moveTo>
                  <a:cubicBezTo>
                    <a:pt x="54" y="7"/>
                    <a:pt x="108" y="0"/>
                    <a:pt x="155" y="23"/>
                  </a:cubicBezTo>
                  <a:cubicBezTo>
                    <a:pt x="202" y="46"/>
                    <a:pt x="243" y="145"/>
                    <a:pt x="283" y="151"/>
                  </a:cubicBezTo>
                  <a:cubicBezTo>
                    <a:pt x="323" y="157"/>
                    <a:pt x="366" y="63"/>
                    <a:pt x="393" y="60"/>
                  </a:cubicBezTo>
                  <a:cubicBezTo>
                    <a:pt x="420" y="57"/>
                    <a:pt x="425" y="122"/>
                    <a:pt x="448" y="133"/>
                  </a:cubicBezTo>
                  <a:cubicBezTo>
                    <a:pt x="471" y="144"/>
                    <a:pt x="500" y="134"/>
                    <a:pt x="530" y="1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631040" y="4975200"/>
              <a:ext cx="1593360" cy="480960"/>
              <a:chOff x="4631040" y="4975200"/>
              <a:chExt cx="1593360" cy="480960"/>
            </a:xfrm>
          </p:grpSpPr>
          <p:sp>
            <p:nvSpPr>
              <p:cNvPr id="441" name=""/>
              <p:cNvSpPr/>
              <p:nvPr/>
            </p:nvSpPr>
            <p:spPr>
              <a:xfrm>
                <a:off x="5289480" y="5042160"/>
                <a:ext cx="363240" cy="363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84960" y="5222880"/>
                <a:ext cx="739440" cy="233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31040" y="4975200"/>
                <a:ext cx="131400" cy="1317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54280" y="49770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" name=""/>
          <p:cNvGrpSpPr/>
          <p:nvPr/>
        </p:nvGrpSpPr>
        <p:grpSpPr>
          <a:xfrm>
            <a:off x="2208240" y="5326200"/>
            <a:ext cx="1828800" cy="987120"/>
            <a:chOff x="2208240" y="5326200"/>
            <a:chExt cx="1828800" cy="987120"/>
          </a:xfrm>
        </p:grpSpPr>
        <p:grpSp>
          <p:nvGrpSpPr>
            <p:cNvPr id="446" name=""/>
            <p:cNvGrpSpPr/>
            <p:nvPr/>
          </p:nvGrpSpPr>
          <p:grpSpPr>
            <a:xfrm>
              <a:off x="2208240" y="5326200"/>
              <a:ext cx="1828800" cy="987120"/>
              <a:chOff x="2208240" y="5326200"/>
              <a:chExt cx="1828800" cy="987120"/>
            </a:xfrm>
          </p:grpSpPr>
          <p:sp>
            <p:nvSpPr>
              <p:cNvPr id="447" name=""/>
              <p:cNvSpPr/>
              <p:nvPr/>
            </p:nvSpPr>
            <p:spPr>
              <a:xfrm>
                <a:off x="3151440" y="5384880"/>
                <a:ext cx="363600" cy="363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08240" y="5559480"/>
                <a:ext cx="12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3397320" y="5413320"/>
                <a:ext cx="596880" cy="115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384720" y="5572080"/>
                <a:ext cx="652320" cy="741240"/>
              </a:xfrm>
              <a:custGeom>
                <a:avLst/>
                <a:gdLst/>
                <a:ahLst/>
                <a:rect l="l" t="t" r="r" b="b"/>
                <a:pathLst>
                  <a:path w="411" h="467">
                    <a:moveTo>
                      <a:pt x="0" y="0"/>
                    </a:moveTo>
                    <a:cubicBezTo>
                      <a:pt x="14" y="57"/>
                      <a:pt x="28" y="115"/>
                      <a:pt x="55" y="138"/>
                    </a:cubicBezTo>
                    <a:cubicBezTo>
                      <a:pt x="82" y="161"/>
                      <a:pt x="138" y="118"/>
                      <a:pt x="164" y="138"/>
                    </a:cubicBezTo>
                    <a:cubicBezTo>
                      <a:pt x="190" y="158"/>
                      <a:pt x="187" y="236"/>
                      <a:pt x="210" y="256"/>
                    </a:cubicBezTo>
                    <a:cubicBezTo>
                      <a:pt x="233" y="276"/>
                      <a:pt x="284" y="233"/>
                      <a:pt x="302" y="256"/>
                    </a:cubicBezTo>
                    <a:cubicBezTo>
                      <a:pt x="320" y="279"/>
                      <a:pt x="302" y="359"/>
                      <a:pt x="320" y="394"/>
                    </a:cubicBezTo>
                    <a:cubicBezTo>
                      <a:pt x="338" y="429"/>
                      <a:pt x="374" y="448"/>
                      <a:pt x="411" y="467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630960" y="5862600"/>
                <a:ext cx="131760" cy="1317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209760" y="53262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2614680" y="555948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1073160" y="5381640"/>
            <a:ext cx="7751880" cy="438120"/>
          </a:xfrm>
          <a:custGeom>
            <a:avLst/>
            <a:gdLst/>
            <a:ahLst/>
            <a:rect l="l" t="t" r="r" b="b"/>
            <a:pathLst>
              <a:path w="4883" h="276">
                <a:moveTo>
                  <a:pt x="0" y="176"/>
                </a:moveTo>
                <a:cubicBezTo>
                  <a:pt x="72" y="136"/>
                  <a:pt x="145" y="97"/>
                  <a:pt x="211" y="103"/>
                </a:cubicBezTo>
                <a:cubicBezTo>
                  <a:pt x="277" y="109"/>
                  <a:pt x="318" y="206"/>
                  <a:pt x="394" y="212"/>
                </a:cubicBezTo>
                <a:cubicBezTo>
                  <a:pt x="470" y="218"/>
                  <a:pt x="600" y="163"/>
                  <a:pt x="668" y="139"/>
                </a:cubicBezTo>
                <a:cubicBezTo>
                  <a:pt x="736" y="115"/>
                  <a:pt x="735" y="54"/>
                  <a:pt x="805" y="66"/>
                </a:cubicBezTo>
                <a:cubicBezTo>
                  <a:pt x="875" y="78"/>
                  <a:pt x="1018" y="186"/>
                  <a:pt x="1088" y="212"/>
                </a:cubicBezTo>
                <a:cubicBezTo>
                  <a:pt x="1158" y="238"/>
                  <a:pt x="1171" y="248"/>
                  <a:pt x="1226" y="222"/>
                </a:cubicBezTo>
                <a:cubicBezTo>
                  <a:pt x="1281" y="196"/>
                  <a:pt x="1311" y="63"/>
                  <a:pt x="1418" y="57"/>
                </a:cubicBezTo>
                <a:cubicBezTo>
                  <a:pt x="1525" y="51"/>
                  <a:pt x="1740" y="171"/>
                  <a:pt x="1866" y="185"/>
                </a:cubicBezTo>
                <a:cubicBezTo>
                  <a:pt x="1992" y="199"/>
                  <a:pt x="2086" y="163"/>
                  <a:pt x="2176" y="139"/>
                </a:cubicBezTo>
                <a:cubicBezTo>
                  <a:pt x="2266" y="115"/>
                  <a:pt x="2332" y="39"/>
                  <a:pt x="2405" y="39"/>
                </a:cubicBezTo>
                <a:cubicBezTo>
                  <a:pt x="2478" y="39"/>
                  <a:pt x="2556" y="144"/>
                  <a:pt x="2615" y="139"/>
                </a:cubicBezTo>
                <a:cubicBezTo>
                  <a:pt x="2674" y="134"/>
                  <a:pt x="2698" y="22"/>
                  <a:pt x="2762" y="11"/>
                </a:cubicBezTo>
                <a:cubicBezTo>
                  <a:pt x="2826" y="0"/>
                  <a:pt x="2908" y="52"/>
                  <a:pt x="2999" y="75"/>
                </a:cubicBezTo>
                <a:cubicBezTo>
                  <a:pt x="3090" y="98"/>
                  <a:pt x="3220" y="151"/>
                  <a:pt x="3310" y="148"/>
                </a:cubicBezTo>
                <a:cubicBezTo>
                  <a:pt x="3400" y="145"/>
                  <a:pt x="3451" y="46"/>
                  <a:pt x="3539" y="57"/>
                </a:cubicBezTo>
                <a:cubicBezTo>
                  <a:pt x="3627" y="68"/>
                  <a:pt x="3758" y="212"/>
                  <a:pt x="3840" y="212"/>
                </a:cubicBezTo>
                <a:cubicBezTo>
                  <a:pt x="3922" y="212"/>
                  <a:pt x="3965" y="64"/>
                  <a:pt x="4032" y="57"/>
                </a:cubicBezTo>
                <a:cubicBezTo>
                  <a:pt x="4099" y="50"/>
                  <a:pt x="4139" y="161"/>
                  <a:pt x="4243" y="167"/>
                </a:cubicBezTo>
                <a:cubicBezTo>
                  <a:pt x="4347" y="173"/>
                  <a:pt x="4547" y="76"/>
                  <a:pt x="4654" y="94"/>
                </a:cubicBezTo>
                <a:cubicBezTo>
                  <a:pt x="4761" y="112"/>
                  <a:pt x="4822" y="194"/>
                  <a:pt x="4883" y="276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0A5-3492-499B-BF25-533FC349F8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Η μεταμόρφωση ενός σωματιδίου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54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Ένα σωματίδιο μπορεί ακόμη να μεταμορφωθεί σε ένα ή περισσότερα άλλα σωματίδια αρκεί να μην παραβιάζονται οι αρχές διατήρηση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4608360" y="3627360"/>
            <a:ext cx="1236960" cy="21081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917640" y="35607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6735600" y="3618000"/>
            <a:ext cx="19335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FE7-8259-45FF-8BE6-13D016BC64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el-GR" sz="3600" spc="-1" strike="noStrike" baseline="30000">
                <a:solidFill>
                  <a:srgbClr val="003366"/>
                </a:solidFill>
                <a:latin typeface="Arial"/>
              </a:rPr>
              <a:t>ο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ΠΑΡΑΔΟΞΟ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66"/>
                </a:solidFill>
                <a:latin typeface="Arial"/>
              </a:rPr>
              <a:t>Η ΜΕΤΑΜΟΡΦΩΣΗ ΤΩΝ ΣΩΜΑΤΙΔΙΩ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5EE82-E505-40E2-A656-A7A1D147AB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765000" y="728640"/>
            <a:ext cx="8379000" cy="13413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685440" y="2111400"/>
            <a:ext cx="8458200" cy="43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να ηλεκτρόνιο μπορεί  να εκπέμψει ένα φωτόνιο, αυξάνοντας έτσι την ενέργειά του και αλλάζοντας την ορμή το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τά από λίγο όμως θα απορροφήσει το φωτόνιο ώστε να επανέλθει η τάξη κα να διατηρηθούν οι νόμοι ορμής και ενέργεια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όμως υπάρχει και ένα άλλο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, τότε η απορρόφηση μπορεί να γίνει από αυτό και έτσι οι αρχές διατήρησης ισχύουν πλέον όχι από το ένα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λλά από το σύστημα. Τα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χουν αλληλεπιδράσει μέσω ανταλλαγής φωτονίο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611280" y="72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Η αρχή της αβεβαιότητας δημιουργεί τις αλληλεπιδράσεις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B60-1645-4B1F-AA1E-EF1823A3C4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Η αλληλεπίδραση ως συνέπεια της αρχής της απροσδιοριστίας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αγράμματ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yn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7" name="ShockwaveFlash1"/>
          <p:cNvGraphicFramePr/>
          <p:nvPr/>
        </p:nvGraphicFramePr>
        <p:xfrm>
          <a:off x="826920" y="2612880"/>
          <a:ext cx="4310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12880"/>
                    <a:ext cx="4310280" cy="35053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6027840" y="2639880"/>
            <a:ext cx="2268360" cy="16448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6031080" y="4476600"/>
            <a:ext cx="2238120" cy="16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000-A664-48D9-B919-9911860B66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Το πρόβλημα των απειρισμώ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ν λάβουμε υπόψη μας και άλλους μηχανισμούς ανταλλαγής φωτονίων εκτός του πρώτου, οδηγούμαστε σε απειρισμού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κβαντομηχανική θεωρία καταρρέε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λύση δόθηκε μεταπολεμικά και οδήγησε στην τελειότερη φυσική θεωρία όλων των εποχώ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40B-F5F8-47C1-94A1-F896300AB7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Το όνομα της λύσης επακανονικοποίηση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695600"/>
            <a:ext cx="8458200" cy="31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Times New Roman"/>
              </a:rPr>
              <a:t>Τα αποτελέσματα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έτρηση του γυρομαγνητικού λόγο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υ ηλεκτρονίου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2.0023193043718 ± 0.0000000000075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Ι ΤΟ ΒΡΑΒΕΙ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Sin-Itiro Tomonaga, Julian Schwinger, Richard P. Feynman 19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057320" y="4782960"/>
            <a:ext cx="1533600" cy="17481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4065480" y="4809960"/>
            <a:ext cx="1328760" cy="16560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6810480" y="4794120"/>
            <a:ext cx="1255680" cy="16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9D7-DBFC-441D-97D1-CD6FEC810F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9200" y="52344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cbcbcb"/>
                </a:solidFill>
                <a:latin typeface="Times New Roman"/>
              </a:rPr>
              <a:t>Η βασική ιδέα της λύσης- η πόλωση του κενού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02120" y="1544760"/>
            <a:ext cx="5237640" cy="5099760"/>
            <a:chOff x="402120" y="1544760"/>
            <a:chExt cx="5237640" cy="5099760"/>
          </a:xfrm>
        </p:grpSpPr>
        <p:grpSp>
          <p:nvGrpSpPr>
            <p:cNvPr id="480" name=""/>
            <p:cNvGrpSpPr/>
            <p:nvPr/>
          </p:nvGrpSpPr>
          <p:grpSpPr>
            <a:xfrm>
              <a:off x="2857320" y="4739040"/>
              <a:ext cx="461160" cy="942480"/>
              <a:chOff x="2857320" y="4739040"/>
              <a:chExt cx="461160" cy="94248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2858760" y="4739040"/>
                <a:ext cx="459720" cy="507960"/>
                <a:chOff x="2858760" y="4739040"/>
                <a:chExt cx="459720" cy="507960"/>
              </a:xfrm>
            </p:grpSpPr>
            <p:sp>
              <p:nvSpPr>
                <p:cNvPr id="482" name=""/>
                <p:cNvSpPr/>
                <p:nvPr/>
              </p:nvSpPr>
              <p:spPr>
                <a:xfrm flipH="1" rot="16200000">
                  <a:off x="2901960" y="4836960"/>
                  <a:ext cx="317160" cy="3189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rot="16200000">
                  <a:off x="2834280" y="4763160"/>
                  <a:ext cx="50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2857320" y="5173920"/>
                <a:ext cx="459720" cy="507600"/>
                <a:chOff x="2857320" y="5173920"/>
                <a:chExt cx="459720" cy="507600"/>
              </a:xfrm>
            </p:grpSpPr>
            <p:sp>
              <p:nvSpPr>
                <p:cNvPr id="485" name=""/>
                <p:cNvSpPr/>
                <p:nvPr/>
              </p:nvSpPr>
              <p:spPr>
                <a:xfrm flipH="1" rot="16200000">
                  <a:off x="2901960" y="5271480"/>
                  <a:ext cx="316800" cy="3193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rot="16200000">
                  <a:off x="2832840" y="5197680"/>
                  <a:ext cx="50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"/>
            <p:cNvGrpSpPr/>
            <p:nvPr/>
          </p:nvGrpSpPr>
          <p:grpSpPr>
            <a:xfrm>
              <a:off x="2837160" y="5702040"/>
              <a:ext cx="460800" cy="942480"/>
              <a:chOff x="2837160" y="5702040"/>
              <a:chExt cx="460800" cy="94248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2837160" y="5702040"/>
                <a:ext cx="459720" cy="507600"/>
                <a:chOff x="2837160" y="5702040"/>
                <a:chExt cx="459720" cy="507600"/>
              </a:xfrm>
            </p:grpSpPr>
            <p:sp>
              <p:nvSpPr>
                <p:cNvPr id="489" name=""/>
                <p:cNvSpPr/>
                <p:nvPr/>
              </p:nvSpPr>
              <p:spPr>
                <a:xfrm flipH="1" rot="16200000">
                  <a:off x="2882520" y="5801760"/>
                  <a:ext cx="317160" cy="3186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rot="16200000">
                  <a:off x="2812680" y="5725800"/>
                  <a:ext cx="50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838240" y="6136920"/>
                <a:ext cx="459720" cy="507600"/>
                <a:chOff x="2838240" y="6136920"/>
                <a:chExt cx="459720" cy="507600"/>
              </a:xfrm>
            </p:grpSpPr>
            <p:sp>
              <p:nvSpPr>
                <p:cNvPr id="492" name=""/>
                <p:cNvSpPr/>
                <p:nvPr/>
              </p:nvSpPr>
              <p:spPr>
                <a:xfrm flipH="1" rot="16200000">
                  <a:off x="2882880" y="6236280"/>
                  <a:ext cx="317160" cy="3189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 rot="16200000">
                  <a:off x="2813760" y="6160680"/>
                  <a:ext cx="50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402120" y="3688920"/>
              <a:ext cx="5237640" cy="1008360"/>
              <a:chOff x="402120" y="3688920"/>
              <a:chExt cx="5237640" cy="1008360"/>
            </a:xfrm>
          </p:grpSpPr>
          <p:sp>
            <p:nvSpPr>
              <p:cNvPr id="495" name=""/>
              <p:cNvSpPr/>
              <p:nvPr/>
            </p:nvSpPr>
            <p:spPr>
              <a:xfrm>
                <a:off x="2573640" y="3732120"/>
                <a:ext cx="894240" cy="88884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38960" y="3688920"/>
                <a:ext cx="619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3505680" y="4005000"/>
                <a:ext cx="948240" cy="459720"/>
                <a:chOff x="3505680" y="4005000"/>
                <a:chExt cx="948240" cy="45972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3505680" y="4005000"/>
                  <a:ext cx="510840" cy="459720"/>
                  <a:chOff x="3505680" y="4005000"/>
                  <a:chExt cx="510840" cy="4597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605400" y="4049640"/>
                    <a:ext cx="318960" cy="31680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5680" y="4005000"/>
                    <a:ext cx="510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3943440" y="4005000"/>
                  <a:ext cx="510480" cy="459720"/>
                  <a:chOff x="3943440" y="4005000"/>
                  <a:chExt cx="510480" cy="45972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4043160" y="4049640"/>
                    <a:ext cx="318600" cy="31680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943440" y="4005000"/>
                    <a:ext cx="510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-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4" name=""/>
              <p:cNvGrpSpPr/>
              <p:nvPr/>
            </p:nvGrpSpPr>
            <p:grpSpPr>
              <a:xfrm>
                <a:off x="1478520" y="4040640"/>
                <a:ext cx="948240" cy="459720"/>
                <a:chOff x="1478520" y="4040640"/>
                <a:chExt cx="948240" cy="459720"/>
              </a:xfrm>
            </p:grpSpPr>
            <p:grpSp>
              <p:nvGrpSpPr>
                <p:cNvPr id="505" name=""/>
                <p:cNvGrpSpPr/>
                <p:nvPr/>
              </p:nvGrpSpPr>
              <p:grpSpPr>
                <a:xfrm>
                  <a:off x="1916280" y="4040640"/>
                  <a:ext cx="510480" cy="459720"/>
                  <a:chOff x="1916280" y="4040640"/>
                  <a:chExt cx="510480" cy="4597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>
                    <a:off x="2009520" y="4085280"/>
                    <a:ext cx="318960" cy="31680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>
                    <a:off x="1916280" y="4040640"/>
                    <a:ext cx="510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1478520" y="4040640"/>
                  <a:ext cx="510840" cy="459720"/>
                  <a:chOff x="1478520" y="4040640"/>
                  <a:chExt cx="510840" cy="459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>
                    <a:off x="1572120" y="4085280"/>
                    <a:ext cx="318960" cy="31680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>
                    <a:off x="1478160" y="4040640"/>
                    <a:ext cx="510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-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402120" y="4076280"/>
                <a:ext cx="948600" cy="459720"/>
                <a:chOff x="402120" y="4076280"/>
                <a:chExt cx="948600" cy="45972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839880" y="4076280"/>
                  <a:ext cx="510840" cy="459720"/>
                  <a:chOff x="839880" y="4076280"/>
                  <a:chExt cx="510840" cy="4597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flipH="1">
                    <a:off x="933480" y="4120920"/>
                    <a:ext cx="318960" cy="31680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>
                    <a:off x="839520" y="4076280"/>
                    <a:ext cx="510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402120" y="4076280"/>
                  <a:ext cx="511200" cy="459720"/>
                  <a:chOff x="402120" y="4076280"/>
                  <a:chExt cx="511200" cy="45972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H="1">
                    <a:off x="495360" y="4120920"/>
                    <a:ext cx="319320" cy="31680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>
                    <a:off x="402120" y="4076280"/>
                    <a:ext cx="511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-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" name=""/>
              <p:cNvGrpSpPr/>
              <p:nvPr/>
            </p:nvGrpSpPr>
            <p:grpSpPr>
              <a:xfrm>
                <a:off x="4691520" y="4005000"/>
                <a:ext cx="948240" cy="459720"/>
                <a:chOff x="4691520" y="4005000"/>
                <a:chExt cx="948240" cy="459720"/>
              </a:xfrm>
            </p:grpSpPr>
            <p:grpSp>
              <p:nvGrpSpPr>
                <p:cNvPr id="519" name=""/>
                <p:cNvGrpSpPr/>
                <p:nvPr/>
              </p:nvGrpSpPr>
              <p:grpSpPr>
                <a:xfrm>
                  <a:off x="4691520" y="4005000"/>
                  <a:ext cx="510840" cy="459720"/>
                  <a:chOff x="4691520" y="4005000"/>
                  <a:chExt cx="510840" cy="4597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4791240" y="4049640"/>
                    <a:ext cx="318960" cy="31680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4691520" y="4005000"/>
                    <a:ext cx="510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5129280" y="4005000"/>
                  <a:ext cx="510480" cy="459720"/>
                  <a:chOff x="5129280" y="4005000"/>
                  <a:chExt cx="510480" cy="4597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5229000" y="4049640"/>
                    <a:ext cx="318600" cy="31680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129280" y="4005000"/>
                    <a:ext cx="510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-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5" name=""/>
            <p:cNvGrpSpPr/>
            <p:nvPr/>
          </p:nvGrpSpPr>
          <p:grpSpPr>
            <a:xfrm>
              <a:off x="2777760" y="2759040"/>
              <a:ext cx="460800" cy="942480"/>
              <a:chOff x="2777760" y="2759040"/>
              <a:chExt cx="460800" cy="94248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2777760" y="3193920"/>
                <a:ext cx="459720" cy="507600"/>
                <a:chOff x="2777760" y="3193920"/>
                <a:chExt cx="459720" cy="507600"/>
              </a:xfrm>
            </p:grpSpPr>
            <p:sp>
              <p:nvSpPr>
                <p:cNvPr id="527" name=""/>
                <p:cNvSpPr/>
                <p:nvPr/>
              </p:nvSpPr>
              <p:spPr>
                <a:xfrm flipH="1" rot="5400000">
                  <a:off x="2875680" y="3281760"/>
                  <a:ext cx="316800" cy="3189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 rot="5400000">
                  <a:off x="2753280" y="3217680"/>
                  <a:ext cx="50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2778840" y="2759040"/>
                <a:ext cx="459720" cy="507600"/>
                <a:chOff x="2778840" y="2759040"/>
                <a:chExt cx="459720" cy="507600"/>
              </a:xfrm>
            </p:grpSpPr>
            <p:sp>
              <p:nvSpPr>
                <p:cNvPr id="530" name=""/>
                <p:cNvSpPr/>
                <p:nvPr/>
              </p:nvSpPr>
              <p:spPr>
                <a:xfrm flipH="1" rot="5400000">
                  <a:off x="2875320" y="2846880"/>
                  <a:ext cx="316800" cy="3186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 rot="5400000">
                  <a:off x="2754360" y="2782800"/>
                  <a:ext cx="50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2" name=""/>
            <p:cNvGrpSpPr/>
            <p:nvPr/>
          </p:nvGrpSpPr>
          <p:grpSpPr>
            <a:xfrm>
              <a:off x="2737800" y="1544760"/>
              <a:ext cx="459720" cy="942480"/>
              <a:chOff x="2737800" y="1544760"/>
              <a:chExt cx="459720" cy="94248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2737800" y="1979640"/>
                <a:ext cx="459720" cy="507600"/>
                <a:chOff x="2737800" y="1979640"/>
                <a:chExt cx="459720" cy="507600"/>
              </a:xfrm>
            </p:grpSpPr>
            <p:sp>
              <p:nvSpPr>
                <p:cNvPr id="534" name=""/>
                <p:cNvSpPr/>
                <p:nvPr/>
              </p:nvSpPr>
              <p:spPr>
                <a:xfrm flipH="1" rot="5400000">
                  <a:off x="2836800" y="2068560"/>
                  <a:ext cx="317160" cy="3189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rot="5400000">
                  <a:off x="2713320" y="2003400"/>
                  <a:ext cx="50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737800" y="1544760"/>
                <a:ext cx="459720" cy="507600"/>
                <a:chOff x="2737800" y="1544760"/>
                <a:chExt cx="459720" cy="507600"/>
              </a:xfrm>
            </p:grpSpPr>
            <p:sp>
              <p:nvSpPr>
                <p:cNvPr id="537" name=""/>
                <p:cNvSpPr/>
                <p:nvPr/>
              </p:nvSpPr>
              <p:spPr>
                <a:xfrm flipH="1" rot="5400000">
                  <a:off x="2836800" y="1633680"/>
                  <a:ext cx="317160" cy="3189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rot="5400000">
                  <a:off x="2713320" y="1568520"/>
                  <a:ext cx="50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"/>
            <p:cNvSpPr/>
            <p:nvPr/>
          </p:nvSpPr>
          <p:spPr>
            <a:xfrm>
              <a:off x="1996200" y="3216240"/>
              <a:ext cx="1989720" cy="19774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47800" y="2109240"/>
              <a:ext cx="4269600" cy="42436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4100040" y="2334240"/>
              <a:ext cx="1044360" cy="917280"/>
              <a:chOff x="4100040" y="2334240"/>
              <a:chExt cx="1044360" cy="9172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4100040" y="2582640"/>
                <a:ext cx="682200" cy="668880"/>
                <a:chOff x="4100040" y="2582640"/>
                <a:chExt cx="682200" cy="668880"/>
              </a:xfrm>
            </p:grpSpPr>
            <p:sp>
              <p:nvSpPr>
                <p:cNvPr id="543" name=""/>
                <p:cNvSpPr/>
                <p:nvPr/>
              </p:nvSpPr>
              <p:spPr>
                <a:xfrm rot="19540200">
                  <a:off x="4271040" y="2736720"/>
                  <a:ext cx="318960" cy="3168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19540200">
                  <a:off x="4185000" y="2687040"/>
                  <a:ext cx="512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4462920" y="2334240"/>
                <a:ext cx="681480" cy="668160"/>
                <a:chOff x="4462920" y="2334240"/>
                <a:chExt cx="681480" cy="668160"/>
              </a:xfrm>
            </p:grpSpPr>
            <p:sp>
              <p:nvSpPr>
                <p:cNvPr id="546" name=""/>
                <p:cNvSpPr/>
                <p:nvPr/>
              </p:nvSpPr>
              <p:spPr>
                <a:xfrm rot="19540200">
                  <a:off x="4632840" y="2489760"/>
                  <a:ext cx="319320" cy="3171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19540200">
                  <a:off x="4547880" y="2438280"/>
                  <a:ext cx="511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4180320" y="5074920"/>
              <a:ext cx="1054440" cy="874800"/>
              <a:chOff x="4180320" y="5074920"/>
              <a:chExt cx="1054440" cy="87480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4180320" y="5074920"/>
                <a:ext cx="673200" cy="654840"/>
                <a:chOff x="4180320" y="5074920"/>
                <a:chExt cx="673200" cy="654840"/>
              </a:xfrm>
            </p:grpSpPr>
            <p:sp>
              <p:nvSpPr>
                <p:cNvPr id="550" name=""/>
                <p:cNvSpPr/>
                <p:nvPr/>
              </p:nvSpPr>
              <p:spPr>
                <a:xfrm rot="1816800">
                  <a:off x="4375440" y="5225400"/>
                  <a:ext cx="318960" cy="3175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rot="1816800">
                  <a:off x="4261320" y="5172120"/>
                  <a:ext cx="511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4561920" y="5295240"/>
                <a:ext cx="672840" cy="654480"/>
                <a:chOff x="4561920" y="5295240"/>
                <a:chExt cx="672840" cy="654480"/>
              </a:xfrm>
            </p:grpSpPr>
            <p:sp>
              <p:nvSpPr>
                <p:cNvPr id="553" name=""/>
                <p:cNvSpPr/>
                <p:nvPr/>
              </p:nvSpPr>
              <p:spPr>
                <a:xfrm rot="1816800">
                  <a:off x="4753440" y="5446080"/>
                  <a:ext cx="318960" cy="3175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1816800">
                  <a:off x="4642920" y="5392440"/>
                  <a:ext cx="510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5" name=""/>
            <p:cNvGrpSpPr/>
            <p:nvPr/>
          </p:nvGrpSpPr>
          <p:grpSpPr>
            <a:xfrm>
              <a:off x="906120" y="2314800"/>
              <a:ext cx="1010520" cy="964440"/>
              <a:chOff x="906120" y="2314800"/>
              <a:chExt cx="1010520" cy="9644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1229400" y="2597760"/>
                <a:ext cx="687240" cy="681480"/>
                <a:chOff x="1229400" y="2597760"/>
                <a:chExt cx="687240" cy="6814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2420400">
                  <a:off x="1444680" y="2788560"/>
                  <a:ext cx="318960" cy="3175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2420400">
                  <a:off x="1316880" y="2708280"/>
                  <a:ext cx="511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906120" y="2314800"/>
                <a:ext cx="687240" cy="681480"/>
                <a:chOff x="906120" y="2314800"/>
                <a:chExt cx="687240" cy="681480"/>
              </a:xfrm>
            </p:grpSpPr>
            <p:sp>
              <p:nvSpPr>
                <p:cNvPr id="560" name=""/>
                <p:cNvSpPr/>
                <p:nvPr/>
              </p:nvSpPr>
              <p:spPr>
                <a:xfrm flipH="1" rot="2420400">
                  <a:off x="1110960" y="2505240"/>
                  <a:ext cx="318960" cy="3175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rot="2420400">
                  <a:off x="993600" y="2425320"/>
                  <a:ext cx="511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"/>
            <p:cNvGrpSpPr/>
            <p:nvPr/>
          </p:nvGrpSpPr>
          <p:grpSpPr>
            <a:xfrm>
              <a:off x="962640" y="5211000"/>
              <a:ext cx="987840" cy="1001520"/>
              <a:chOff x="962640" y="5211000"/>
              <a:chExt cx="987840" cy="100152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1266840" y="5211000"/>
                <a:ext cx="683640" cy="684720"/>
                <a:chOff x="1266840" y="5211000"/>
                <a:chExt cx="683640" cy="684720"/>
              </a:xfrm>
            </p:grpSpPr>
            <p:sp>
              <p:nvSpPr>
                <p:cNvPr id="564" name=""/>
                <p:cNvSpPr/>
                <p:nvPr/>
              </p:nvSpPr>
              <p:spPr>
                <a:xfrm flipH="1" rot="18859800">
                  <a:off x="1462320" y="5372640"/>
                  <a:ext cx="317160" cy="3189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rot="18859800">
                  <a:off x="1353960" y="5323320"/>
                  <a:ext cx="50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962640" y="5527800"/>
                <a:ext cx="683640" cy="684720"/>
                <a:chOff x="962640" y="5527800"/>
                <a:chExt cx="683640" cy="684720"/>
              </a:xfrm>
            </p:grpSpPr>
            <p:sp>
              <p:nvSpPr>
                <p:cNvPr id="567" name=""/>
                <p:cNvSpPr/>
                <p:nvPr/>
              </p:nvSpPr>
              <p:spPr>
                <a:xfrm flipH="1" rot="18859800">
                  <a:off x="1158120" y="5684040"/>
                  <a:ext cx="317160" cy="3189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 rot="18859800">
                  <a:off x="1049760" y="5640120"/>
                  <a:ext cx="50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9" name=""/>
          <p:cNvSpPr/>
          <p:nvPr/>
        </p:nvSpPr>
        <p:spPr>
          <a:xfrm>
            <a:off x="5776920" y="1471680"/>
            <a:ext cx="336708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Όσο απομακρυνόμαστε από το φορτίο το βλέπουμε μικρότερ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φορτίο ενός γυμνού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είναι άπει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Άπειρη η επίδραση του κενού, άπειρο και το φορτίο, με αποτέλεσμα να προκύπτει κάτι πεπερασμένο. Αυτό το πεπερασμένο φορτίο μετράμε στο εργαστήρι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EE4-B96D-4DA0-AACB-013EB473F5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el-GR" sz="3600" spc="-1" strike="noStrike" baseline="30000">
                <a:solidFill>
                  <a:srgbClr val="003366"/>
                </a:solidFill>
                <a:latin typeface="Arial"/>
              </a:rPr>
              <a:t>ο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ΠΑΡΑΔΟΞΟ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66"/>
                </a:solidFill>
                <a:latin typeface="Arial"/>
              </a:rPr>
              <a:t>ΤΑ ΓΥΜΝΑ ΣΩΜΑΤΙΔΙΑ ΕΧΟΥΝ ΑΠΕΙΡΟ ΦΟΡΤΙΟ 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F317-5451-47AD-903E-AA21160557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784080" y="598320"/>
            <a:ext cx="8359920" cy="12495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Τελικά στο μικρόκοσμο του χωροχρόνου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2001600"/>
            <a:ext cx="818352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εν υπάρχουν οι έννοιες τροχιά-ταχύτητα-δύναμη κλ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πορούν να συμβούν τα πάντα αρκεί να τηρούνται μακροσκοπικά οι αρχές διατήρη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σταθερότητα της ύλης οφείλεται σε βασικές αρχές της φυσική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 κενό δεν είναι η ανυπαρξία. Αντιθέτως έχει ενέργεια και σφύζει από δραστηριότητα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101-8DB0-4E3A-8EC9-BBCFC264C2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9696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bcbcb"/>
                </a:solidFill>
                <a:latin typeface="Times New Roman"/>
              </a:rPr>
              <a:t>Οι ιδιότητες ενός σωματιδίο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μάζα τ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 σπιν τ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 ηλεκτρικό του φορτί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 λεπτονικός ή βαριονικός του αριθμό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χάρη το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παραξενιά τ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παραδοξότητά τ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6C9-2018-4D80-90AB-26D323633A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824760" y="932400"/>
            <a:ext cx="8246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Τελικά τα στοιχειώδη σωματίδια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Δεν μπορεί να είναι ακίνητα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Δεν μπορεί να κινούνται ευθύγραμμα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Δεν κινούνται πάνω σε καμπύλες ( παραγωγήσιμες ) τροχιές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Μπορεί να δραπετεύσουν με έναν μαγικό τρόπο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Μπορεί να μεταμορφωθούν σε άλλο ή άλλα σωματίδια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Έχουν άπειρο φορτίο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8B6B-42BD-4FCE-890A-7DA0165D109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Μια απρόσμενη σύνδεση μικρόκοσμου με μακρόκοσμ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Για μια μεγάλη μεταμόρφωση απαιτούνται υψηλές ενέργειε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Υψηλές ενέργειες είχαμε στην αρχή της δημιουργία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Όσο πιο μακριά κοιτάμε τόσο τα πράγματα που βλέπουμε είναι πιο πίσω στο χρόνο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Άρα με τα τηλεσκόπια μπορούμε να δούμε την ιστορία της εξέλιξης των σωματιδίων και των φυσικών νόμων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F38E-5A1B-4E29-A0BB-DA79815E84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Τι θα βλέπαμε από το Λυκαβηττό.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837720" y="2927520"/>
            <a:ext cx="5994360" cy="31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Θα βλέπαμε τους Αιγινήτες να ετοιμάζονται για τον πόλεμο της Τροία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Θα βλέπαμε στο Αιγάλεω στρατιώτες του Ιουστινιανο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Στον Υμηττό θα υπήρχαν κλέφτες και αρματωλοί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Στον άγνωστο στρατιώτη θα βλέπαμε Γερμανούς κατακτητέ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Στο Πολυτεχνείο θα έμπαινε το ταν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7283520" y="0"/>
            <a:ext cx="1860480" cy="11556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7075440" y="2549520"/>
            <a:ext cx="1762200" cy="16509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6802560" y="2463840"/>
            <a:ext cx="1992240" cy="246528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6981840" y="2687760"/>
            <a:ext cx="1792440" cy="2662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5"/>
          <a:stretch/>
        </p:blipFill>
        <p:spPr>
          <a:xfrm>
            <a:off x="6769080" y="3146400"/>
            <a:ext cx="1984320" cy="15750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6"/>
          <a:stretch/>
        </p:blipFill>
        <p:spPr>
          <a:xfrm>
            <a:off x="6539040" y="3718080"/>
            <a:ext cx="2300040" cy="17208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32320" y="2374920"/>
            <a:ext cx="5653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ν η ταχύτητα του φωτός ήταν  10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/</a:t>
            </a: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το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B168-9D69-4E7A-AD3D-3A8AF63AB7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Το μέλλον της Φυσικής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83920" y="2636640"/>
            <a:ext cx="82357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Ενοποίηση κάποιων από τους φυσικούς νόμους ( αρχή διατήρησης μάζας και ενέργειας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Εύρεση μερικών μικρών αποκλίσεων από τους νόμους με μεγάλες όμως θεωρητικές συνέπειες ( παραβίαση της ενέργειας σε μικρά χρονικά διαστήματα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Αναγωγή κάποιων από αυτούς σε κάποια πιο απλή και βαθύτερη αιτία. ( αναγωγή της παγκόσμιας έλξης στη γεωμετρία του χώρου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7310520" y="150840"/>
            <a:ext cx="1682640" cy="17701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979560" y="1066680"/>
            <a:ext cx="661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A50C-ACBD-402F-96FE-63361AD85C5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Βασικές πηγές της παρουσίαση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Παν. Τσιλιμίγκρας, Φυσική Στοιχειωδών Σωματιδίων, Εκδοτικός Οίκος Γρηγ. Φουντάς, 1996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physics.ntua.gr/POPPHYS/index.html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( Τμήμα εφαρμοσμένης φυσικής ΕΜΠ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1B03-411F-40D7-A4D9-435F104CED5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ΣΑΣ ΕΥΧΑΡΙΣΤΩ ΠΟΛΥ ΓΙΑ ΤΗΝ ΠΑΡΟΥΣΙΑ ΣΑΣ…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97000" y="3030480"/>
            <a:ext cx="4143240" cy="32209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5546880" y="5261040"/>
            <a:ext cx="1638000" cy="9874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914400" y="642960"/>
            <a:ext cx="8229600" cy="19051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59480" y="2828880"/>
            <a:ext cx="421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Times New Roman"/>
              </a:rPr>
              <a:t>Και σας καλώ για ένα επόμενο ταξίδι στο μακρόκοσμο του χωροχρόν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4606-8124-46C4-BDCF-98F5A9232CE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414440" y="333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ΟΙ ΦΥΣΙΚΟΙ ΝΟΜΟΙ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00720" y="3715920"/>
            <a:ext cx="49384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6666"/>
                </a:solidFill>
                <a:latin typeface="Arial"/>
              </a:rPr>
              <a:t>Οι κανόνες του παιχνιδιού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302400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673520" y="5589720"/>
            <a:ext cx="44704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66"/>
                </a:solidFill>
                <a:latin typeface="Arial"/>
              </a:rPr>
              <a:t>Πιο εύκολες είναι οι απαντήσεις του πως, από τις απαντήσεις του γιατ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63680" y="2354400"/>
            <a:ext cx="1450800" cy="150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59E3-A23C-43CD-9D8B-A18366F498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552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Μερικοί από τους κανόνε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Ο νόμος της παγκόσμιας έλξη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Τα αξιώματα της σχετικότητα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Οι εξισώσεις του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Οι αρχές της θερμοδυναμική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6CD87-09DF-4F11-9E09-37237ABBA9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49440" y="484200"/>
            <a:ext cx="6138720" cy="14572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Κανόνων συνέχεια… </a:t>
            </a:r>
            <a:br>
              <a:rPr sz="4000"/>
            </a:br>
            <a:r>
              <a:rPr b="0" lang="el-GR" sz="4000" spc="-1" strike="noStrike">
                <a:solidFill>
                  <a:srgbClr val="cbcbcb"/>
                </a:solidFill>
                <a:latin typeface="Times New Roman"/>
              </a:rPr>
              <a:t>ΟΙ ΑΡΧΕΣ ΔΙΑΤΗΡΗΣΗΣ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ρχή διατήρησης της ενέργειας-μάζ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ρχή διατήρησης της ορμή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ρχή διατήρησης της στροφορμή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ρχή διατήρησης του φορτί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ρχή διατήρησης λεπτονικού και βαριονικού αριθμ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ρχή διατήρησης του χρώ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D8E-C56F-4265-82DB-30A35DFAB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Λίγα περισσότερα για την αρχή διατήρησης της μάζας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 </a:t>
            </a: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Lavoisier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1764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3366"/>
                </a:solidFill>
                <a:latin typeface="Arial"/>
              </a:rPr>
              <a:t>Αν κάψετε 50 κιλά βενζίνης ( ένα ρεζερβουάρ περίπου) πόσο διοξείδιο του άνθρακα παράγετα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Μερικά γραμμάρι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50 κιλά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150 κιλά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3280" y="3645000"/>
            <a:ext cx="371484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C944-B133-4D89-A2D3-53D676FC7A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Το φαινόμενο του θερμοκηπίο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39280" y="2362320"/>
            <a:ext cx="3311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Ένα ρεζερβουάρ την εβδομάδα επί 1εκ αυτοκίνητα του λεκανοπεδίου είναι 150.000.000 κιλα διοξειδίου ή 150.000τόνο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Με άλλα λόγια 4.000 φορτηγά την </a:t>
            </a:r>
            <a:r>
              <a:rPr b="0" lang="el-GR" sz="1800" spc="-1" strike="noStrike" u="sng">
                <a:solidFill>
                  <a:srgbClr val="003366"/>
                </a:solidFill>
                <a:uFillTx/>
                <a:latin typeface="Arial"/>
              </a:rPr>
              <a:t>ημέρα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 με 6 τόνους φορτίο το καθένα μεταφέρουν διοξείδιο από λεκανοπέδιο Αττικής στην ατμόσφαιρ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0" t="0" r="0" b="6831"/>
          <a:stretch/>
        </p:blipFill>
        <p:spPr>
          <a:xfrm>
            <a:off x="3924360" y="3048120"/>
            <a:ext cx="4734000" cy="3549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rcRect l="7748" t="0" r="35526" b="0"/>
          <a:stretch/>
        </p:blipFill>
        <p:spPr>
          <a:xfrm>
            <a:off x="4356000" y="2349360"/>
            <a:ext cx="1150920" cy="1901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4500720" y="4436640"/>
            <a:ext cx="0" cy="1368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859280" y="4436640"/>
            <a:ext cx="0" cy="1368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219640" y="4436640"/>
            <a:ext cx="0" cy="1368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BB25-CBD2-4511-9786-26FBDF12BD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3:48:22Z</dcterms:created>
  <dc:creator/>
  <dc:description/>
  <cp:keywords/>
  <dc:language>en-US</dc:language>
  <cp:lastModifiedBy>user</cp:lastModifiedBy>
  <dcterms:modified xsi:type="dcterms:W3CDTF">2010-12-06T08:47:11Z</dcterms:modified>
  <cp:revision>42</cp:revision>
  <dc:subject/>
  <dc:title>Ένα ταξίδι στο μικρόκοσμο του χωρόχρονο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32</vt:lpwstr>
  </property>
</Properties>
</file>